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  <p:sldId id="297" r:id="rId64"/>
    <p:sldId id="298" r:id="rId65"/>
    <p:sldId id="299" r:id="rId66"/>
    <p:sldId id="300" r:id="rId67"/>
    <p:sldId id="301" r:id="rId68"/>
    <p:sldId id="302" r:id="rId69"/>
    <p:sldId id="303" r:id="rId70"/>
    <p:sldId id="304" r:id="rId71"/>
    <p:sldId id="305" r:id="rId72"/>
    <p:sldId id="306" r:id="rId73"/>
    <p:sldId id="307" r:id="rId74"/>
    <p:sldId id="308" r:id="rId75"/>
    <p:sldId id="309" r:id="rId76"/>
    <p:sldId id="310" r:id="rId77"/>
    <p:sldId id="311" r:id="rId78"/>
    <p:sldId id="312" r:id="rId79"/>
    <p:sldId id="313" r:id="rId80"/>
    <p:sldId id="314" r:id="rId81"/>
    <p:sldId id="315" r:id="rId82"/>
    <p:sldId id="316" r:id="rId83"/>
    <p:sldId id="317" r:id="rId84"/>
    <p:sldId id="318" r:id="rId8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slide" Target="slides/slide42.xml"/><Relationship Id="rId65" Type="http://schemas.openxmlformats.org/officeDocument/2006/relationships/slide" Target="slides/slide43.xml"/><Relationship Id="rId66" Type="http://schemas.openxmlformats.org/officeDocument/2006/relationships/slide" Target="slides/slide44.xml"/><Relationship Id="rId67" Type="http://schemas.openxmlformats.org/officeDocument/2006/relationships/slide" Target="slides/slide45.xml"/><Relationship Id="rId68" Type="http://schemas.openxmlformats.org/officeDocument/2006/relationships/slide" Target="slides/slide46.xml"/><Relationship Id="rId69" Type="http://schemas.openxmlformats.org/officeDocument/2006/relationships/slide" Target="slides/slide47.xml"/><Relationship Id="rId70" Type="http://schemas.openxmlformats.org/officeDocument/2006/relationships/slide" Target="slides/slide48.xml"/><Relationship Id="rId71" Type="http://schemas.openxmlformats.org/officeDocument/2006/relationships/slide" Target="slides/slide49.xml"/><Relationship Id="rId72" Type="http://schemas.openxmlformats.org/officeDocument/2006/relationships/slide" Target="slides/slide50.xml"/><Relationship Id="rId73" Type="http://schemas.openxmlformats.org/officeDocument/2006/relationships/slide" Target="slides/slide51.xml"/><Relationship Id="rId74" Type="http://schemas.openxmlformats.org/officeDocument/2006/relationships/slide" Target="slides/slide52.xml"/><Relationship Id="rId75" Type="http://schemas.openxmlformats.org/officeDocument/2006/relationships/slide" Target="slides/slide53.xml"/><Relationship Id="rId76" Type="http://schemas.openxmlformats.org/officeDocument/2006/relationships/slide" Target="slides/slide54.xml"/><Relationship Id="rId77" Type="http://schemas.openxmlformats.org/officeDocument/2006/relationships/slide" Target="slides/slide55.xml"/><Relationship Id="rId78" Type="http://schemas.openxmlformats.org/officeDocument/2006/relationships/slide" Target="slides/slide56.xml"/><Relationship Id="rId79" Type="http://schemas.openxmlformats.org/officeDocument/2006/relationships/slide" Target="slides/slide57.xml"/><Relationship Id="rId80" Type="http://schemas.openxmlformats.org/officeDocument/2006/relationships/slide" Target="slides/slide58.xml"/><Relationship Id="rId81" Type="http://schemas.openxmlformats.org/officeDocument/2006/relationships/slide" Target="slides/slide59.xml"/><Relationship Id="rId82" Type="http://schemas.openxmlformats.org/officeDocument/2006/relationships/slide" Target="slides/slide60.xml"/><Relationship Id="rId83" Type="http://schemas.openxmlformats.org/officeDocument/2006/relationships/slide" Target="slides/slide61.xml"/><Relationship Id="rId84" Type="http://schemas.openxmlformats.org/officeDocument/2006/relationships/slide" Target="slides/slide62.xml"/><Relationship Id="rId85" Type="http://schemas.openxmlformats.org/officeDocument/2006/relationships/slide" Target="slides/slide63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343B7-E276-486F-A5B8-2421A521D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10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data structure in a z/OS system is a sequential data set. It consists of one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cords that are stored in physical order and processed in sequence. New reco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ppended to the end of the dat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of a sequential data sets might be an output data set for a line printer 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k of punch car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z/OS user defines sequential data sets through job control language (JCL) with a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rganization of PS (DSORG=PS), which stands for physical sequential. In 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, the records in the data set are physically arranged one after anoth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tioned data set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s a layer of organization to the simple structure of sequ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ets. A PDS is a collection of sequential data sets, called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mber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a sequential data set and has a simple name, which can be up to eight characters lo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DS also contains a directory. The directory contains an entry for each member in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S with a reference (or pointer) to the member. Member names are listed alphabetica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directory, but members themselves can appear in any order in the library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allows the system to retrieve a particular member in the dat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tioned data set is commonly referred to as a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DSE is a partitioned data set extended. It consists of a directory and zero or mo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, just like a PDS. It can be created with JCL, TSO/E, and ISPF, just like a PD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be processed with the same access methods. PDSE data sets are stored only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D, not ta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SDS, the sequence in which records are written to the data set defines their ordering. For most applications an ESDS is processed in the same manner as a sequential access method (SAM)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RRDS is like a table stored as a data set with its slots resembling the entries in a table. The RRN of a slot is analogous to a subscript value for a table e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applications require that each record in a data set have a key field. This field might be a customer number, an employee ID etc. This key field value identifies a unique record within th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ey field must be identified by specifying its position and length. When a record is added, the value of its key field determines its place in the data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 conceptual level, a KSDS is like an indexed sequential access method (ISAM) file, but more efficient than an ISAM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915840" y="1235160"/>
            <a:ext cx="69134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ecture 4: Working with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1754280" y="-52560"/>
            <a:ext cx="57657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lications of ‘Buffer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47760" y="839880"/>
            <a:ext cx="7970760" cy="55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r program processes more than one dataset you will have to describe a record buffer for each data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all the records in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ch record instance must be copied (read) from the file into the record buffer when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data records each record must be placed in the record buffer and then transferred (written) to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32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fer a record from an input file to an output file we will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cord into the in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it to the out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data to the output file from the output record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22320" y="-81000"/>
            <a:ext cx="91314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cribing the record buffer in CO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4343400"/>
            <a:ext cx="7713720" cy="16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 type/template/buffer of every file used in a program must be described in the FILE SECTION by means of an FD (file description)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D entry consists of the letters FD and an internal fi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995480" y="716040"/>
            <a:ext cx="5068800" cy="327348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Student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 Student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Id       PIC 9(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Surname      PIC X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Initials     PIC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DateOfBi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Y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M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D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CourseCode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rant           PIC 9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ender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431640" y="3809880"/>
            <a:ext cx="1359000" cy="471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42800" y="2714760"/>
            <a:ext cx="1322280" cy="1371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ctr">
              <a:lnSpc>
                <a:spcPct val="103000"/>
              </a:lnSpc>
              <a:spcAft>
                <a:spcPts val="1247"/>
              </a:spcAf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109520" y="-81000"/>
            <a:ext cx="699300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Select and Assign Cla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2240" y="5181480"/>
            <a:ext cx="84819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l file name used in the FD entry is connected to an external file (on disk or tape) by means of the Select and Assign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273400" y="615960"/>
            <a:ext cx="4714920" cy="45115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VIRONMENT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-OUTPUT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-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Student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 TO “STUDENTS.DA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D Student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 Student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Id       PIC 9(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Studen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Surname      PIC X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Initials     PIC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DateOfBi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Y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M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DOBirth      PIC 9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CourseCode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rant           PIC 9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7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 Gender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7200" y="2471760"/>
            <a:ext cx="1314360" cy="471600"/>
          </a:xfrm>
          <a:prstGeom prst="rect">
            <a:avLst/>
          </a:prstGeom>
          <a:solidFill>
            <a:srgbClr val="00cc99"/>
          </a:solidFill>
          <a:ln w="1260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 algn="ctr">
              <a:lnSpc>
                <a:spcPct val="103000"/>
              </a:lnSpc>
              <a:spcAft>
                <a:spcPts val="1247"/>
              </a:spcAf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38200" y="1424160"/>
            <a:ext cx="1406880" cy="1815120"/>
          </a:xfrm>
          <a:custGeom>
            <a:avLst/>
            <a:gdLst/>
            <a:ahLst/>
            <a:rect l="0" t="0" r="r" b="b"/>
            <a:pathLst>
              <a:path fill="none" w="3908" h="5042">
                <a:moveTo>
                  <a:pt x="3908" y="0"/>
                </a:moveTo>
                <a:lnTo>
                  <a:pt x="3908" y="0"/>
                </a:lnTo>
                <a:cubicBezTo>
                  <a:pt x="3223" y="1"/>
                  <a:pt x="2550" y="237"/>
                  <a:pt x="1956" y="684"/>
                </a:cubicBezTo>
                <a:cubicBezTo>
                  <a:pt x="1361" y="1132"/>
                  <a:pt x="867" y="1776"/>
                  <a:pt x="524" y="2552"/>
                </a:cubicBezTo>
                <a:cubicBezTo>
                  <a:pt x="189" y="3310"/>
                  <a:pt x="8" y="4167"/>
                  <a:pt x="0" y="5042"/>
                </a:cubicBezTo>
              </a:path>
            </a:pathLst>
          </a:custGeom>
          <a:ln w="12600">
            <a:solidFill>
              <a:srgbClr val="3333cc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1743840"/>
            <a:ext cx="1408320" cy="721800"/>
          </a:xfrm>
          <a:custGeom>
            <a:avLst/>
            <a:gdLst/>
            <a:ahLst/>
            <a:rect l="0" t="0" r="r" b="b"/>
            <a:pathLst>
              <a:path fill="none" w="3912" h="2005">
                <a:moveTo>
                  <a:pt x="0" y="2005"/>
                </a:moveTo>
                <a:lnTo>
                  <a:pt x="0" y="2005"/>
                </a:lnTo>
                <a:lnTo>
                  <a:pt x="0" y="2005"/>
                </a:lnTo>
                <a:cubicBezTo>
                  <a:pt x="687" y="2005"/>
                  <a:pt x="1361" y="1912"/>
                  <a:pt x="1956" y="1736"/>
                </a:cubicBezTo>
                <a:cubicBezTo>
                  <a:pt x="2551" y="1560"/>
                  <a:pt x="3045" y="1307"/>
                  <a:pt x="3388" y="1001"/>
                </a:cubicBezTo>
                <a:cubicBezTo>
                  <a:pt x="3731" y="697"/>
                  <a:pt x="3911" y="352"/>
                  <a:pt x="3912" y="0"/>
                </a:cubicBezTo>
              </a:path>
            </a:pathLst>
          </a:custGeom>
          <a:ln w="12600">
            <a:solidFill>
              <a:srgbClr val="3333cc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53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1981080" y="4572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le Handl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1185840" y="-23760"/>
            <a:ext cx="65278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BOL file handling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28600" y="685800"/>
            <a:ext cx="8610480" cy="54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your program can access the data in an input file or place data in an output file you must make the file available to the program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ies a record occurrence/instance from the file and places it in the record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pies the record it finds in the record buffer to th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close previously opened files may result in data not being written to the file or users being prevented from accessing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685800" y="-54000"/>
            <a:ext cx="77630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2092320" y="-38160"/>
            <a:ext cx="4307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READ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04920" y="762120"/>
            <a:ext cx="815328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“read ahead” strategy we always try to stay one data item ahead of the 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format of the “read ahead” algorithm is as fol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READ first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NOT EndOf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READ next data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is to process any stream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1454040" y="-66600"/>
            <a:ext cx="59389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ading a Sequential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57120" y="838080"/>
            <a:ext cx="8634240" cy="48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104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StudentRecor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END MOVE HIGH-VALUES TO StudentReco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FORM UNT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Record = HIGH-VALU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 StudentRecor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StudentRecor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T END MOVE HIGH-VAL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StudentRecor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2560">
              <a:lnSpc>
                <a:spcPct val="90000"/>
              </a:lnSpc>
              <a:spcBef>
                <a:spcPts val="479"/>
              </a:spcBef>
              <a:tabLst>
                <a:tab algn="l" pos="4762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REA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-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91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104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ample of an algorithm which is capable of processing any sequential file; ordered or unorder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2643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329000" y="3203640"/>
            <a:ext cx="285840" cy="287280"/>
          </a:xfrm>
          <a:prstGeom prst="rect">
            <a:avLst/>
          </a:prstGeom>
          <a:solidFill>
            <a:srgbClr val="00cc99"/>
          </a:solidFill>
          <a:ln w="2556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77659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31640" y="1871640"/>
            <a:ext cx="778680" cy="1226160"/>
            <a:chOff x="431640" y="1871640"/>
            <a:chExt cx="778680" cy="1226160"/>
          </a:xfrm>
        </p:grpSpPr>
        <p:sp>
          <p:nvSpPr>
            <p:cNvPr id="975" name=""/>
            <p:cNvSpPr/>
            <p:nvPr/>
          </p:nvSpPr>
          <p:spPr>
            <a:xfrm>
              <a:off x="498600" y="1871640"/>
              <a:ext cx="711720" cy="609840"/>
            </a:xfrm>
            <a:custGeom>
              <a:avLst/>
              <a:gdLst/>
              <a:ahLst/>
              <a:rect l="0" t="0" r="r" b="b"/>
              <a:pathLst>
                <a:path w="1977" h="1694">
                  <a:moveTo>
                    <a:pt x="1481" y="0"/>
                  </a:moveTo>
                  <a:lnTo>
                    <a:pt x="1977" y="282"/>
                  </a:lnTo>
                  <a:lnTo>
                    <a:pt x="1481" y="565"/>
                  </a:lnTo>
                  <a:lnTo>
                    <a:pt x="1481" y="420"/>
                  </a:lnTo>
                  <a:lnTo>
                    <a:pt x="490" y="420"/>
                  </a:lnTo>
                  <a:lnTo>
                    <a:pt x="419" y="442"/>
                  </a:lnTo>
                  <a:lnTo>
                    <a:pt x="366" y="481"/>
                  </a:lnTo>
                  <a:lnTo>
                    <a:pt x="340" y="534"/>
                  </a:lnTo>
                  <a:lnTo>
                    <a:pt x="331" y="618"/>
                  </a:lnTo>
                  <a:lnTo>
                    <a:pt x="331" y="702"/>
                  </a:lnTo>
                  <a:lnTo>
                    <a:pt x="331" y="1694"/>
                  </a:lnTo>
                  <a:lnTo>
                    <a:pt x="0" y="1694"/>
                  </a:lnTo>
                  <a:lnTo>
                    <a:pt x="0" y="702"/>
                  </a:lnTo>
                  <a:lnTo>
                    <a:pt x="0" y="570"/>
                  </a:lnTo>
                  <a:lnTo>
                    <a:pt x="13" y="508"/>
                  </a:lnTo>
                  <a:lnTo>
                    <a:pt x="26" y="442"/>
                  </a:lnTo>
                  <a:lnTo>
                    <a:pt x="44" y="393"/>
                  </a:lnTo>
                  <a:lnTo>
                    <a:pt x="75" y="344"/>
                  </a:lnTo>
                  <a:lnTo>
                    <a:pt x="106" y="305"/>
                  </a:lnTo>
                  <a:lnTo>
                    <a:pt x="154" y="256"/>
                  </a:lnTo>
                  <a:lnTo>
                    <a:pt x="212" y="216"/>
                  </a:lnTo>
                  <a:lnTo>
                    <a:pt x="269" y="190"/>
                  </a:lnTo>
                  <a:lnTo>
                    <a:pt x="335" y="159"/>
                  </a:lnTo>
                  <a:lnTo>
                    <a:pt x="415" y="145"/>
                  </a:lnTo>
                  <a:lnTo>
                    <a:pt x="490" y="141"/>
                  </a:lnTo>
                  <a:lnTo>
                    <a:pt x="1481" y="141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1640" y="2486160"/>
              <a:ext cx="709920" cy="611640"/>
            </a:xfrm>
            <a:custGeom>
              <a:avLst/>
              <a:gdLst/>
              <a:ahLst/>
              <a:rect l="0" t="0" r="r" b="b"/>
              <a:pathLst>
                <a:path w="1972" h="1699">
                  <a:moveTo>
                    <a:pt x="0" y="424"/>
                  </a:moveTo>
                  <a:lnTo>
                    <a:pt x="327" y="0"/>
                  </a:lnTo>
                  <a:lnTo>
                    <a:pt x="658" y="424"/>
                  </a:lnTo>
                  <a:lnTo>
                    <a:pt x="494" y="424"/>
                  </a:lnTo>
                  <a:lnTo>
                    <a:pt x="494" y="1275"/>
                  </a:lnTo>
                  <a:lnTo>
                    <a:pt x="517" y="1337"/>
                  </a:lnTo>
                  <a:lnTo>
                    <a:pt x="561" y="1381"/>
                  </a:lnTo>
                  <a:lnTo>
                    <a:pt x="623" y="1407"/>
                  </a:lnTo>
                  <a:lnTo>
                    <a:pt x="715" y="1416"/>
                  </a:lnTo>
                  <a:lnTo>
                    <a:pt x="822" y="1416"/>
                  </a:lnTo>
                  <a:lnTo>
                    <a:pt x="1972" y="1416"/>
                  </a:lnTo>
                  <a:lnTo>
                    <a:pt x="1972" y="1699"/>
                  </a:lnTo>
                  <a:lnTo>
                    <a:pt x="822" y="1699"/>
                  </a:lnTo>
                  <a:lnTo>
                    <a:pt x="662" y="1699"/>
                  </a:lnTo>
                  <a:lnTo>
                    <a:pt x="592" y="1686"/>
                  </a:lnTo>
                  <a:lnTo>
                    <a:pt x="517" y="1677"/>
                  </a:lnTo>
                  <a:lnTo>
                    <a:pt x="464" y="1659"/>
                  </a:lnTo>
                  <a:lnTo>
                    <a:pt x="402" y="1633"/>
                  </a:lnTo>
                  <a:lnTo>
                    <a:pt x="357" y="1606"/>
                  </a:lnTo>
                  <a:lnTo>
                    <a:pt x="300" y="1567"/>
                  </a:lnTo>
                  <a:lnTo>
                    <a:pt x="251" y="1518"/>
                  </a:lnTo>
                  <a:lnTo>
                    <a:pt x="220" y="1465"/>
                  </a:lnTo>
                  <a:lnTo>
                    <a:pt x="185" y="1412"/>
                  </a:lnTo>
                  <a:lnTo>
                    <a:pt x="167" y="1341"/>
                  </a:lnTo>
                  <a:lnTo>
                    <a:pt x="163" y="1275"/>
                  </a:lnTo>
                  <a:lnTo>
                    <a:pt x="163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04920" y="30492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viewing what is a data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" y="1165320"/>
            <a:ext cx="868680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set is a collection of logically related data records stored on one disk storage volume or a set of volu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set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ur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brary of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of data records used by a process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5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print a data set or display it on a terminal. The logical record is the basic unit of information used by a program running on z/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68612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431640" y="1816200"/>
            <a:ext cx="778680" cy="1563840"/>
            <a:chOff x="431640" y="1816200"/>
            <a:chExt cx="778680" cy="1563840"/>
          </a:xfrm>
        </p:grpSpPr>
        <p:sp>
          <p:nvSpPr>
            <p:cNvPr id="1125" name=""/>
            <p:cNvSpPr/>
            <p:nvPr/>
          </p:nvSpPr>
          <p:spPr>
            <a:xfrm>
              <a:off x="498600" y="1816200"/>
              <a:ext cx="711720" cy="776520"/>
            </a:xfrm>
            <a:custGeom>
              <a:avLst/>
              <a:gdLst/>
              <a:ahLst/>
              <a:rect l="0" t="0" r="r" b="b"/>
              <a:pathLst>
                <a:path w="1977" h="2157">
                  <a:moveTo>
                    <a:pt x="1481" y="0"/>
                  </a:moveTo>
                  <a:lnTo>
                    <a:pt x="1977" y="357"/>
                  </a:lnTo>
                  <a:lnTo>
                    <a:pt x="1481" y="720"/>
                  </a:lnTo>
                  <a:lnTo>
                    <a:pt x="1481" y="539"/>
                  </a:lnTo>
                  <a:lnTo>
                    <a:pt x="490" y="539"/>
                  </a:lnTo>
                  <a:lnTo>
                    <a:pt x="419" y="561"/>
                  </a:lnTo>
                  <a:lnTo>
                    <a:pt x="366" y="614"/>
                  </a:lnTo>
                  <a:lnTo>
                    <a:pt x="340" y="684"/>
                  </a:lnTo>
                  <a:lnTo>
                    <a:pt x="331" y="786"/>
                  </a:lnTo>
                  <a:lnTo>
                    <a:pt x="331" y="897"/>
                  </a:lnTo>
                  <a:lnTo>
                    <a:pt x="331" y="2157"/>
                  </a:lnTo>
                  <a:lnTo>
                    <a:pt x="0" y="2157"/>
                  </a:lnTo>
                  <a:lnTo>
                    <a:pt x="0" y="897"/>
                  </a:lnTo>
                  <a:lnTo>
                    <a:pt x="0" y="724"/>
                  </a:lnTo>
                  <a:lnTo>
                    <a:pt x="13" y="645"/>
                  </a:lnTo>
                  <a:lnTo>
                    <a:pt x="26" y="561"/>
                  </a:lnTo>
                  <a:lnTo>
                    <a:pt x="44" y="503"/>
                  </a:lnTo>
                  <a:lnTo>
                    <a:pt x="75" y="441"/>
                  </a:lnTo>
                  <a:lnTo>
                    <a:pt x="106" y="388"/>
                  </a:lnTo>
                  <a:lnTo>
                    <a:pt x="154" y="326"/>
                  </a:lnTo>
                  <a:lnTo>
                    <a:pt x="212" y="273"/>
                  </a:lnTo>
                  <a:lnTo>
                    <a:pt x="269" y="238"/>
                  </a:lnTo>
                  <a:lnTo>
                    <a:pt x="335" y="203"/>
                  </a:lnTo>
                  <a:lnTo>
                    <a:pt x="415" y="185"/>
                  </a:lnTo>
                  <a:lnTo>
                    <a:pt x="490" y="181"/>
                  </a:lnTo>
                  <a:lnTo>
                    <a:pt x="1481" y="181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1640" y="2600280"/>
              <a:ext cx="709920" cy="779760"/>
            </a:xfrm>
            <a:custGeom>
              <a:avLst/>
              <a:gdLst/>
              <a:ahLst/>
              <a:rect l="0" t="0" r="r" b="b"/>
              <a:pathLst>
                <a:path w="1972" h="2166">
                  <a:moveTo>
                    <a:pt x="0" y="543"/>
                  </a:moveTo>
                  <a:lnTo>
                    <a:pt x="327" y="0"/>
                  </a:lnTo>
                  <a:lnTo>
                    <a:pt x="658" y="543"/>
                  </a:lnTo>
                  <a:lnTo>
                    <a:pt x="494" y="543"/>
                  </a:lnTo>
                  <a:lnTo>
                    <a:pt x="494" y="1627"/>
                  </a:lnTo>
                  <a:lnTo>
                    <a:pt x="517" y="1706"/>
                  </a:lnTo>
                  <a:lnTo>
                    <a:pt x="561" y="1764"/>
                  </a:lnTo>
                  <a:lnTo>
                    <a:pt x="623" y="1795"/>
                  </a:lnTo>
                  <a:lnTo>
                    <a:pt x="715" y="1808"/>
                  </a:lnTo>
                  <a:lnTo>
                    <a:pt x="822" y="1808"/>
                  </a:lnTo>
                  <a:lnTo>
                    <a:pt x="1972" y="1808"/>
                  </a:lnTo>
                  <a:lnTo>
                    <a:pt x="1972" y="2166"/>
                  </a:lnTo>
                  <a:lnTo>
                    <a:pt x="822" y="2166"/>
                  </a:lnTo>
                  <a:lnTo>
                    <a:pt x="662" y="2166"/>
                  </a:lnTo>
                  <a:lnTo>
                    <a:pt x="592" y="2152"/>
                  </a:lnTo>
                  <a:lnTo>
                    <a:pt x="517" y="2135"/>
                  </a:lnTo>
                  <a:lnTo>
                    <a:pt x="464" y="2117"/>
                  </a:lnTo>
                  <a:lnTo>
                    <a:pt x="402" y="2082"/>
                  </a:lnTo>
                  <a:lnTo>
                    <a:pt x="357" y="2051"/>
                  </a:lnTo>
                  <a:lnTo>
                    <a:pt x="300" y="1993"/>
                  </a:lnTo>
                  <a:lnTo>
                    <a:pt x="251" y="1931"/>
                  </a:lnTo>
                  <a:lnTo>
                    <a:pt x="220" y="1870"/>
                  </a:lnTo>
                  <a:lnTo>
                    <a:pt x="185" y="1799"/>
                  </a:lnTo>
                  <a:lnTo>
                    <a:pt x="167" y="1711"/>
                  </a:lnTo>
                  <a:lnTo>
                    <a:pt x="163" y="1627"/>
                  </a:lnTo>
                  <a:lnTo>
                    <a:pt x="163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982800" y="5786280"/>
            <a:ext cx="6192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73120" y="5005440"/>
            <a:ext cx="81000" cy="16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159080" y="1781280"/>
            <a:ext cx="2700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0384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3019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3565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828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091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3545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61808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8816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51433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540720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56707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59342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9452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4580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7215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1984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14619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17226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8612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224964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251316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277488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985080" y="3727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7246800" y="3727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751032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777384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8037360" y="3727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31640" y="1778040"/>
            <a:ext cx="778680" cy="1919880"/>
            <a:chOff x="431640" y="1778040"/>
            <a:chExt cx="778680" cy="1919880"/>
          </a:xfrm>
        </p:grpSpPr>
        <p:sp>
          <p:nvSpPr>
            <p:cNvPr id="1276" name=""/>
            <p:cNvSpPr/>
            <p:nvPr/>
          </p:nvSpPr>
          <p:spPr>
            <a:xfrm>
              <a:off x="498600" y="1778040"/>
              <a:ext cx="711720" cy="954360"/>
            </a:xfrm>
            <a:custGeom>
              <a:avLst/>
              <a:gdLst/>
              <a:ahLst/>
              <a:rect l="0" t="0" r="r" b="b"/>
              <a:pathLst>
                <a:path w="1977" h="2651">
                  <a:moveTo>
                    <a:pt x="1481" y="0"/>
                  </a:moveTo>
                  <a:lnTo>
                    <a:pt x="1977" y="441"/>
                  </a:lnTo>
                  <a:lnTo>
                    <a:pt x="1481" y="883"/>
                  </a:lnTo>
                  <a:lnTo>
                    <a:pt x="1481" y="662"/>
                  </a:lnTo>
                  <a:lnTo>
                    <a:pt x="490" y="662"/>
                  </a:lnTo>
                  <a:lnTo>
                    <a:pt x="419" y="693"/>
                  </a:lnTo>
                  <a:lnTo>
                    <a:pt x="366" y="755"/>
                  </a:lnTo>
                  <a:lnTo>
                    <a:pt x="340" y="839"/>
                  </a:lnTo>
                  <a:lnTo>
                    <a:pt x="331" y="967"/>
                  </a:lnTo>
                  <a:lnTo>
                    <a:pt x="331" y="1104"/>
                  </a:lnTo>
                  <a:lnTo>
                    <a:pt x="331" y="2651"/>
                  </a:lnTo>
                  <a:lnTo>
                    <a:pt x="0" y="2651"/>
                  </a:lnTo>
                  <a:lnTo>
                    <a:pt x="0" y="1104"/>
                  </a:lnTo>
                  <a:lnTo>
                    <a:pt x="0" y="892"/>
                  </a:lnTo>
                  <a:lnTo>
                    <a:pt x="13" y="795"/>
                  </a:lnTo>
                  <a:lnTo>
                    <a:pt x="26" y="693"/>
                  </a:lnTo>
                  <a:lnTo>
                    <a:pt x="44" y="618"/>
                  </a:lnTo>
                  <a:lnTo>
                    <a:pt x="75" y="543"/>
                  </a:lnTo>
                  <a:lnTo>
                    <a:pt x="106" y="477"/>
                  </a:lnTo>
                  <a:lnTo>
                    <a:pt x="154" y="401"/>
                  </a:lnTo>
                  <a:lnTo>
                    <a:pt x="212" y="340"/>
                  </a:lnTo>
                  <a:lnTo>
                    <a:pt x="269" y="295"/>
                  </a:lnTo>
                  <a:lnTo>
                    <a:pt x="335" y="251"/>
                  </a:lnTo>
                  <a:lnTo>
                    <a:pt x="415" y="225"/>
                  </a:lnTo>
                  <a:lnTo>
                    <a:pt x="490" y="220"/>
                  </a:lnTo>
                  <a:lnTo>
                    <a:pt x="1481" y="220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1640" y="2741760"/>
              <a:ext cx="709920" cy="956160"/>
            </a:xfrm>
            <a:custGeom>
              <a:avLst/>
              <a:gdLst/>
              <a:ahLst/>
              <a:rect l="0" t="0" r="r" b="b"/>
              <a:pathLst>
                <a:path w="1972" h="2656">
                  <a:moveTo>
                    <a:pt x="0" y="662"/>
                  </a:moveTo>
                  <a:lnTo>
                    <a:pt x="327" y="0"/>
                  </a:lnTo>
                  <a:lnTo>
                    <a:pt x="658" y="662"/>
                  </a:lnTo>
                  <a:lnTo>
                    <a:pt x="494" y="662"/>
                  </a:lnTo>
                  <a:lnTo>
                    <a:pt x="494" y="1994"/>
                  </a:lnTo>
                  <a:lnTo>
                    <a:pt x="517" y="2091"/>
                  </a:lnTo>
                  <a:lnTo>
                    <a:pt x="561" y="2161"/>
                  </a:lnTo>
                  <a:lnTo>
                    <a:pt x="623" y="2201"/>
                  </a:lnTo>
                  <a:lnTo>
                    <a:pt x="715" y="2214"/>
                  </a:lnTo>
                  <a:lnTo>
                    <a:pt x="822" y="2214"/>
                  </a:lnTo>
                  <a:lnTo>
                    <a:pt x="1972" y="2214"/>
                  </a:lnTo>
                  <a:lnTo>
                    <a:pt x="1972" y="2656"/>
                  </a:lnTo>
                  <a:lnTo>
                    <a:pt x="822" y="2656"/>
                  </a:lnTo>
                  <a:lnTo>
                    <a:pt x="662" y="2652"/>
                  </a:lnTo>
                  <a:lnTo>
                    <a:pt x="592" y="2638"/>
                  </a:lnTo>
                  <a:lnTo>
                    <a:pt x="517" y="2621"/>
                  </a:lnTo>
                  <a:lnTo>
                    <a:pt x="464" y="2594"/>
                  </a:lnTo>
                  <a:lnTo>
                    <a:pt x="402" y="2555"/>
                  </a:lnTo>
                  <a:lnTo>
                    <a:pt x="357" y="2515"/>
                  </a:lnTo>
                  <a:lnTo>
                    <a:pt x="300" y="2444"/>
                  </a:lnTo>
                  <a:lnTo>
                    <a:pt x="251" y="2369"/>
                  </a:lnTo>
                  <a:lnTo>
                    <a:pt x="220" y="2294"/>
                  </a:lnTo>
                  <a:lnTo>
                    <a:pt x="185" y="2206"/>
                  </a:lnTo>
                  <a:lnTo>
                    <a:pt x="167" y="2095"/>
                  </a:lnTo>
                  <a:lnTo>
                    <a:pt x="163" y="1994"/>
                  </a:lnTo>
                  <a:lnTo>
                    <a:pt x="163" y="662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108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33717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6352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8988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41590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422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9500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521172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54752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7387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0022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6264360" y="17812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2788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79140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19844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1461960" y="17812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172260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198612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224964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5131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2774880" y="17812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1229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73864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764856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791208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8175600" y="17812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0384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33019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565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828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4091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3545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461808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8816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1433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4072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56707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59342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9452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458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7215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1198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461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7226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19861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22496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25131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277488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698508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72468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75103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77738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80373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431640" y="1752480"/>
            <a:ext cx="778680" cy="2224440"/>
            <a:chOff x="431640" y="1752480"/>
            <a:chExt cx="778680" cy="2224440"/>
          </a:xfrm>
        </p:grpSpPr>
        <p:sp>
          <p:nvSpPr>
            <p:cNvPr id="1428" name=""/>
            <p:cNvSpPr/>
            <p:nvPr/>
          </p:nvSpPr>
          <p:spPr>
            <a:xfrm>
              <a:off x="498600" y="1752480"/>
              <a:ext cx="711720" cy="1105200"/>
            </a:xfrm>
            <a:custGeom>
              <a:avLst/>
              <a:gdLst/>
              <a:ahLst/>
              <a:rect l="0" t="0" r="r" b="b"/>
              <a:pathLst>
                <a:path w="1977" h="3070">
                  <a:moveTo>
                    <a:pt x="1481" y="0"/>
                  </a:moveTo>
                  <a:lnTo>
                    <a:pt x="1977" y="507"/>
                  </a:lnTo>
                  <a:lnTo>
                    <a:pt x="1481" y="1024"/>
                  </a:lnTo>
                  <a:lnTo>
                    <a:pt x="1481" y="763"/>
                  </a:lnTo>
                  <a:lnTo>
                    <a:pt x="490" y="763"/>
                  </a:lnTo>
                  <a:lnTo>
                    <a:pt x="419" y="799"/>
                  </a:lnTo>
                  <a:lnTo>
                    <a:pt x="366" y="874"/>
                  </a:lnTo>
                  <a:lnTo>
                    <a:pt x="340" y="971"/>
                  </a:lnTo>
                  <a:lnTo>
                    <a:pt x="331" y="1117"/>
                  </a:lnTo>
                  <a:lnTo>
                    <a:pt x="331" y="1276"/>
                  </a:lnTo>
                  <a:lnTo>
                    <a:pt x="331" y="3070"/>
                  </a:lnTo>
                  <a:lnTo>
                    <a:pt x="0" y="3070"/>
                  </a:lnTo>
                  <a:lnTo>
                    <a:pt x="0" y="1276"/>
                  </a:lnTo>
                  <a:lnTo>
                    <a:pt x="0" y="1033"/>
                  </a:lnTo>
                  <a:lnTo>
                    <a:pt x="13" y="922"/>
                  </a:lnTo>
                  <a:lnTo>
                    <a:pt x="26" y="799"/>
                  </a:lnTo>
                  <a:lnTo>
                    <a:pt x="44" y="715"/>
                  </a:lnTo>
                  <a:lnTo>
                    <a:pt x="75" y="627"/>
                  </a:lnTo>
                  <a:lnTo>
                    <a:pt x="106" y="552"/>
                  </a:lnTo>
                  <a:lnTo>
                    <a:pt x="154" y="468"/>
                  </a:lnTo>
                  <a:lnTo>
                    <a:pt x="212" y="393"/>
                  </a:lnTo>
                  <a:lnTo>
                    <a:pt x="269" y="340"/>
                  </a:lnTo>
                  <a:lnTo>
                    <a:pt x="335" y="291"/>
                  </a:lnTo>
                  <a:lnTo>
                    <a:pt x="415" y="260"/>
                  </a:lnTo>
                  <a:lnTo>
                    <a:pt x="490" y="256"/>
                  </a:lnTo>
                  <a:lnTo>
                    <a:pt x="1481" y="256"/>
                  </a:lnTo>
                  <a:lnTo>
                    <a:pt x="148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640" y="2868480"/>
              <a:ext cx="709920" cy="1108440"/>
            </a:xfrm>
            <a:custGeom>
              <a:avLst/>
              <a:gdLst/>
              <a:ahLst/>
              <a:rect l="0" t="0" r="r" b="b"/>
              <a:pathLst>
                <a:path w="1972" h="3079">
                  <a:moveTo>
                    <a:pt x="0" y="768"/>
                  </a:moveTo>
                  <a:lnTo>
                    <a:pt x="327" y="0"/>
                  </a:lnTo>
                  <a:lnTo>
                    <a:pt x="658" y="768"/>
                  </a:lnTo>
                  <a:lnTo>
                    <a:pt x="494" y="768"/>
                  </a:lnTo>
                  <a:lnTo>
                    <a:pt x="494" y="2311"/>
                  </a:lnTo>
                  <a:lnTo>
                    <a:pt x="517" y="2421"/>
                  </a:lnTo>
                  <a:lnTo>
                    <a:pt x="561" y="2505"/>
                  </a:lnTo>
                  <a:lnTo>
                    <a:pt x="623" y="2554"/>
                  </a:lnTo>
                  <a:lnTo>
                    <a:pt x="715" y="2567"/>
                  </a:lnTo>
                  <a:lnTo>
                    <a:pt x="822" y="2567"/>
                  </a:lnTo>
                  <a:lnTo>
                    <a:pt x="1972" y="2567"/>
                  </a:lnTo>
                  <a:lnTo>
                    <a:pt x="1972" y="3079"/>
                  </a:lnTo>
                  <a:lnTo>
                    <a:pt x="822" y="3079"/>
                  </a:lnTo>
                  <a:lnTo>
                    <a:pt x="662" y="3075"/>
                  </a:lnTo>
                  <a:lnTo>
                    <a:pt x="592" y="3057"/>
                  </a:lnTo>
                  <a:lnTo>
                    <a:pt x="517" y="3035"/>
                  </a:lnTo>
                  <a:lnTo>
                    <a:pt x="464" y="3009"/>
                  </a:lnTo>
                  <a:lnTo>
                    <a:pt x="402" y="2960"/>
                  </a:lnTo>
                  <a:lnTo>
                    <a:pt x="357" y="2916"/>
                  </a:lnTo>
                  <a:lnTo>
                    <a:pt x="300" y="2837"/>
                  </a:lnTo>
                  <a:lnTo>
                    <a:pt x="251" y="2748"/>
                  </a:lnTo>
                  <a:lnTo>
                    <a:pt x="220" y="2660"/>
                  </a:lnTo>
                  <a:lnTo>
                    <a:pt x="185" y="2558"/>
                  </a:lnTo>
                  <a:lnTo>
                    <a:pt x="167" y="2430"/>
                  </a:lnTo>
                  <a:lnTo>
                    <a:pt x="163" y="2311"/>
                  </a:lnTo>
                  <a:lnTo>
                    <a:pt x="163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0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982800" y="5786280"/>
            <a:ext cx="6192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573120" y="5005440"/>
            <a:ext cx="81000" cy="16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1128600" y="13762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31082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37176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363528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9880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415908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4226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68612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49500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21172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54752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57387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0022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62643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652788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79140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119844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61960" y="1781280"/>
            <a:ext cx="26676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172260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198612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24964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25131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2774880" y="1781280"/>
            <a:ext cx="2700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71229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3864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764856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791208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8175600" y="1781280"/>
            <a:ext cx="268200" cy="2761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282680" y="14320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62440" y="14320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7240680" y="13953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079800" y="1413000"/>
            <a:ext cx="0" cy="7426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095960" y="1400040"/>
            <a:ext cx="0" cy="7448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135080" y="9907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0384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3019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565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828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091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545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61808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8816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51433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540720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6707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59342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19452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580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67215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11984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14619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17226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198612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224964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251316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277488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5080" y="29368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7246800" y="29368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751032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384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8037360" y="29368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0384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3019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3565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828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091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36716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61808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8816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51433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40720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56707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9342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19452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4580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7215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19844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619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17226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198612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224964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51316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277488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6985080" y="32115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724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751032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7786800" y="32115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8037360" y="32115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30384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331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565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828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091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3545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461808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8816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51433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540720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56707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59342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19452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4580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7215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11984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14619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17226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198612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24964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251316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277488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985080" y="348444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7246800" y="348444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51032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777384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8037360" y="348444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384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3019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565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828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091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3545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61808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48816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51433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540720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6707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59342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19452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4580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215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11984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14619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17226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198612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224964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251316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277488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6985080" y="375912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7246800" y="375912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751032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777384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8037360" y="375912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1101600" y="403560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98600" y="1752480"/>
            <a:ext cx="711720" cy="789480"/>
          </a:xfrm>
          <a:custGeom>
            <a:avLst/>
            <a:gdLst/>
            <a:ahLst/>
            <a:rect l="0" t="0" r="r" b="b"/>
            <a:pathLst>
              <a:path w="1977" h="2193">
                <a:moveTo>
                  <a:pt x="1481" y="0"/>
                </a:moveTo>
                <a:lnTo>
                  <a:pt x="1977" y="362"/>
                </a:lnTo>
                <a:lnTo>
                  <a:pt x="1481" y="730"/>
                </a:lnTo>
                <a:lnTo>
                  <a:pt x="1481" y="547"/>
                </a:lnTo>
                <a:lnTo>
                  <a:pt x="490" y="547"/>
                </a:lnTo>
                <a:lnTo>
                  <a:pt x="419" y="571"/>
                </a:lnTo>
                <a:lnTo>
                  <a:pt x="366" y="624"/>
                </a:lnTo>
                <a:lnTo>
                  <a:pt x="340" y="694"/>
                </a:lnTo>
                <a:lnTo>
                  <a:pt x="331" y="800"/>
                </a:lnTo>
                <a:lnTo>
                  <a:pt x="331" y="915"/>
                </a:lnTo>
                <a:lnTo>
                  <a:pt x="331" y="2193"/>
                </a:lnTo>
                <a:lnTo>
                  <a:pt x="0" y="2193"/>
                </a:lnTo>
                <a:lnTo>
                  <a:pt x="0" y="915"/>
                </a:lnTo>
                <a:lnTo>
                  <a:pt x="0" y="738"/>
                </a:lnTo>
                <a:lnTo>
                  <a:pt x="13" y="659"/>
                </a:lnTo>
                <a:lnTo>
                  <a:pt x="26" y="571"/>
                </a:lnTo>
                <a:lnTo>
                  <a:pt x="44" y="512"/>
                </a:lnTo>
                <a:lnTo>
                  <a:pt x="75" y="446"/>
                </a:lnTo>
                <a:lnTo>
                  <a:pt x="106" y="393"/>
                </a:lnTo>
                <a:lnTo>
                  <a:pt x="154" y="335"/>
                </a:lnTo>
                <a:lnTo>
                  <a:pt x="212" y="282"/>
                </a:lnTo>
                <a:lnTo>
                  <a:pt x="269" y="243"/>
                </a:lnTo>
                <a:lnTo>
                  <a:pt x="335" y="207"/>
                </a:lnTo>
                <a:lnTo>
                  <a:pt x="415" y="185"/>
                </a:lnTo>
                <a:lnTo>
                  <a:pt x="490" y="181"/>
                </a:lnTo>
                <a:lnTo>
                  <a:pt x="1481" y="181"/>
                </a:lnTo>
                <a:lnTo>
                  <a:pt x="148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31640" y="2857680"/>
            <a:ext cx="709920" cy="1437120"/>
          </a:xfrm>
          <a:custGeom>
            <a:avLst/>
            <a:gdLst/>
            <a:ahLst/>
            <a:rect l="0" t="0" r="r" b="b"/>
            <a:pathLst>
              <a:path w="1972" h="3992">
                <a:moveTo>
                  <a:pt x="0" y="1038"/>
                </a:moveTo>
                <a:lnTo>
                  <a:pt x="327" y="0"/>
                </a:lnTo>
                <a:lnTo>
                  <a:pt x="658" y="1038"/>
                </a:lnTo>
                <a:lnTo>
                  <a:pt x="494" y="1038"/>
                </a:lnTo>
                <a:lnTo>
                  <a:pt x="494" y="3109"/>
                </a:lnTo>
                <a:lnTo>
                  <a:pt x="517" y="3259"/>
                </a:lnTo>
                <a:lnTo>
                  <a:pt x="561" y="3370"/>
                </a:lnTo>
                <a:lnTo>
                  <a:pt x="623" y="3432"/>
                </a:lnTo>
                <a:lnTo>
                  <a:pt x="715" y="3454"/>
                </a:lnTo>
                <a:lnTo>
                  <a:pt x="822" y="3454"/>
                </a:lnTo>
                <a:lnTo>
                  <a:pt x="1972" y="3454"/>
                </a:lnTo>
                <a:lnTo>
                  <a:pt x="1972" y="3988"/>
                </a:lnTo>
                <a:lnTo>
                  <a:pt x="919" y="3992"/>
                </a:lnTo>
                <a:lnTo>
                  <a:pt x="671" y="3992"/>
                </a:lnTo>
                <a:lnTo>
                  <a:pt x="645" y="3983"/>
                </a:lnTo>
                <a:lnTo>
                  <a:pt x="614" y="3979"/>
                </a:lnTo>
                <a:lnTo>
                  <a:pt x="539" y="3975"/>
                </a:lnTo>
                <a:lnTo>
                  <a:pt x="486" y="3948"/>
                </a:lnTo>
                <a:lnTo>
                  <a:pt x="393" y="3895"/>
                </a:lnTo>
                <a:lnTo>
                  <a:pt x="300" y="3816"/>
                </a:lnTo>
                <a:lnTo>
                  <a:pt x="251" y="3697"/>
                </a:lnTo>
                <a:lnTo>
                  <a:pt x="220" y="3577"/>
                </a:lnTo>
                <a:lnTo>
                  <a:pt x="185" y="3440"/>
                </a:lnTo>
                <a:lnTo>
                  <a:pt x="167" y="3268"/>
                </a:lnTo>
                <a:lnTo>
                  <a:pt x="163" y="3109"/>
                </a:lnTo>
                <a:lnTo>
                  <a:pt x="163" y="1038"/>
                </a:lnTo>
                <a:lnTo>
                  <a:pt x="0" y="103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14400" y="2575080"/>
            <a:ext cx="17557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1165320" y="4740120"/>
            <a:ext cx="618804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UNTIL StudentRecord = HIGH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Student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T END MOVE HIGH-VALUES TO 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-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1674720" y="-69840"/>
            <a:ext cx="52545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the READ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33520" y="4876920"/>
            <a:ext cx="533520" cy="120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004760" y="5062680"/>
            <a:ext cx="46080" cy="17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95440" y="5796000"/>
            <a:ext cx="27000" cy="1317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"/>
          <p:cNvGrpSpPr/>
          <p:nvPr/>
        </p:nvGrpSpPr>
        <p:grpSpPr>
          <a:xfrm>
            <a:off x="938160" y="3773520"/>
            <a:ext cx="7392960" cy="1165320"/>
            <a:chOff x="938160" y="3773520"/>
            <a:chExt cx="7392960" cy="1165320"/>
          </a:xfrm>
        </p:grpSpPr>
        <p:sp>
          <p:nvSpPr>
            <p:cNvPr id="1587" name=""/>
            <p:cNvSpPr/>
            <p:nvPr/>
          </p:nvSpPr>
          <p:spPr>
            <a:xfrm>
              <a:off x="938160" y="4159080"/>
              <a:ext cx="7392960" cy="774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 txBox="1"/>
            <p:nvPr/>
          </p:nvSpPr>
          <p:spPr>
            <a:xfrm>
              <a:off x="29178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 txBox="1"/>
            <p:nvPr/>
          </p:nvSpPr>
          <p:spPr>
            <a:xfrm>
              <a:off x="318132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 txBox="1"/>
            <p:nvPr/>
          </p:nvSpPr>
          <p:spPr>
            <a:xfrm>
              <a:off x="344484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 txBox="1"/>
            <p:nvPr/>
          </p:nvSpPr>
          <p:spPr>
            <a:xfrm>
              <a:off x="370836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 txBox="1"/>
            <p:nvPr/>
          </p:nvSpPr>
          <p:spPr>
            <a:xfrm>
              <a:off x="396864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2321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 txBox="1"/>
            <p:nvPr/>
          </p:nvSpPr>
          <p:spPr>
            <a:xfrm>
              <a:off x="449568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 txBox="1"/>
            <p:nvPr/>
          </p:nvSpPr>
          <p:spPr>
            <a:xfrm>
              <a:off x="47592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 txBox="1"/>
            <p:nvPr/>
          </p:nvSpPr>
          <p:spPr>
            <a:xfrm>
              <a:off x="502128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528480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 txBox="1"/>
            <p:nvPr/>
          </p:nvSpPr>
          <p:spPr>
            <a:xfrm>
              <a:off x="55483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 txBox="1"/>
            <p:nvPr/>
          </p:nvSpPr>
          <p:spPr>
            <a:xfrm>
              <a:off x="58118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 txBox="1"/>
            <p:nvPr/>
          </p:nvSpPr>
          <p:spPr>
            <a:xfrm>
              <a:off x="60739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3744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0096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>
              <a:off x="100800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 txBox="1"/>
            <p:nvPr/>
          </p:nvSpPr>
          <p:spPr>
            <a:xfrm>
              <a:off x="1271520" y="4564080"/>
              <a:ext cx="26676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 txBox="1"/>
            <p:nvPr/>
          </p:nvSpPr>
          <p:spPr>
            <a:xfrm>
              <a:off x="153180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>
              <a:off x="17953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 txBox="1"/>
            <p:nvPr/>
          </p:nvSpPr>
          <p:spPr>
            <a:xfrm>
              <a:off x="20588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 txBox="1"/>
            <p:nvPr/>
          </p:nvSpPr>
          <p:spPr>
            <a:xfrm>
              <a:off x="23223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>
              <a:off x="2584440" y="4564080"/>
              <a:ext cx="2700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 txBox="1"/>
            <p:nvPr/>
          </p:nvSpPr>
          <p:spPr>
            <a:xfrm>
              <a:off x="69325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 txBox="1"/>
            <p:nvPr/>
          </p:nvSpPr>
          <p:spPr>
            <a:xfrm>
              <a:off x="71960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>
              <a:off x="745812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772164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 txBox="1"/>
            <p:nvPr/>
          </p:nvSpPr>
          <p:spPr>
            <a:xfrm>
              <a:off x="7985160" y="4564080"/>
              <a:ext cx="268200" cy="272880"/>
            </a:xfrm>
            <a:prstGeom prst="rect">
              <a:avLst/>
            </a:prstGeom>
            <a:noFill/>
            <a:ln w="12600">
              <a:solidFill>
                <a:srgbClr val="676767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>
              <a:off x="1092240" y="4214880"/>
              <a:ext cx="12603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 txBox="1"/>
            <p:nvPr/>
          </p:nvSpPr>
          <p:spPr>
            <a:xfrm>
              <a:off x="3672000" y="4214880"/>
              <a:ext cx="1654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 txBox="1"/>
            <p:nvPr/>
          </p:nvSpPr>
          <p:spPr>
            <a:xfrm>
              <a:off x="7050240" y="4178160"/>
              <a:ext cx="10317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rse</a:t>
              </a:r>
              <a:r>
                <a:rPr b="1" lang="en-US" sz="1800" spc="-1" strike="noStrike">
                  <a:solidFill>
                    <a:srgbClr val="b2b2b2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889360" y="4195800"/>
              <a:ext cx="0" cy="74304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05520" y="4183200"/>
              <a:ext cx="0" cy="74448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 txBox="1"/>
            <p:nvPr/>
          </p:nvSpPr>
          <p:spPr>
            <a:xfrm>
              <a:off x="944640" y="3773520"/>
              <a:ext cx="18194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Rec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1" name=""/>
          <p:cNvSpPr txBox="1"/>
          <p:nvPr/>
        </p:nvSpPr>
        <p:spPr>
          <a:xfrm>
            <a:off x="28098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30733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336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3600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62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259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438948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6530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9150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51786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54421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57056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596592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229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4929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969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1233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14940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175752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20210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22845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254628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67564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70182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72817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75452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78087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216000" y="4653000"/>
            <a:ext cx="778320" cy="1052640"/>
            <a:chOff x="216000" y="4653000"/>
            <a:chExt cx="778320" cy="1052640"/>
          </a:xfrm>
        </p:grpSpPr>
        <p:sp>
          <p:nvSpPr>
            <p:cNvPr id="1649" name=""/>
            <p:cNvSpPr/>
            <p:nvPr/>
          </p:nvSpPr>
          <p:spPr>
            <a:xfrm>
              <a:off x="282600" y="5181480"/>
              <a:ext cx="711720" cy="524160"/>
            </a:xfrm>
            <a:custGeom>
              <a:avLst/>
              <a:gdLst/>
              <a:ahLst/>
              <a:rect l="0" t="0" r="r" b="b"/>
              <a:pathLst>
                <a:path w="1977" h="1456">
                  <a:moveTo>
                    <a:pt x="1481" y="1456"/>
                  </a:moveTo>
                  <a:lnTo>
                    <a:pt x="1977" y="1212"/>
                  </a:lnTo>
                  <a:lnTo>
                    <a:pt x="1481" y="969"/>
                  </a:lnTo>
                  <a:lnTo>
                    <a:pt x="1481" y="1093"/>
                  </a:lnTo>
                  <a:lnTo>
                    <a:pt x="490" y="1093"/>
                  </a:lnTo>
                  <a:lnTo>
                    <a:pt x="419" y="1075"/>
                  </a:lnTo>
                  <a:lnTo>
                    <a:pt x="366" y="1040"/>
                  </a:lnTo>
                  <a:lnTo>
                    <a:pt x="340" y="996"/>
                  </a:lnTo>
                  <a:lnTo>
                    <a:pt x="331" y="925"/>
                  </a:lnTo>
                  <a:lnTo>
                    <a:pt x="331" y="850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850"/>
                  </a:lnTo>
                  <a:lnTo>
                    <a:pt x="0" y="965"/>
                  </a:lnTo>
                  <a:lnTo>
                    <a:pt x="13" y="1018"/>
                  </a:lnTo>
                  <a:lnTo>
                    <a:pt x="26" y="1075"/>
                  </a:lnTo>
                  <a:lnTo>
                    <a:pt x="44" y="1115"/>
                  </a:lnTo>
                  <a:lnTo>
                    <a:pt x="75" y="1159"/>
                  </a:lnTo>
                  <a:lnTo>
                    <a:pt x="106" y="1195"/>
                  </a:lnTo>
                  <a:lnTo>
                    <a:pt x="154" y="1235"/>
                  </a:lnTo>
                  <a:lnTo>
                    <a:pt x="212" y="1270"/>
                  </a:lnTo>
                  <a:lnTo>
                    <a:pt x="269" y="1292"/>
                  </a:lnTo>
                  <a:lnTo>
                    <a:pt x="335" y="1319"/>
                  </a:lnTo>
                  <a:lnTo>
                    <a:pt x="415" y="1332"/>
                  </a:lnTo>
                  <a:lnTo>
                    <a:pt x="490" y="1336"/>
                  </a:lnTo>
                  <a:lnTo>
                    <a:pt x="1481" y="1336"/>
                  </a:lnTo>
                  <a:lnTo>
                    <a:pt x="1481" y="1456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16000" y="4653000"/>
              <a:ext cx="709920" cy="525960"/>
            </a:xfrm>
            <a:custGeom>
              <a:avLst/>
              <a:gdLst/>
              <a:ahLst/>
              <a:rect l="0" t="0" r="r" b="b"/>
              <a:pathLst>
                <a:path w="1972" h="1461">
                  <a:moveTo>
                    <a:pt x="0" y="1093"/>
                  </a:moveTo>
                  <a:lnTo>
                    <a:pt x="327" y="1461"/>
                  </a:lnTo>
                  <a:lnTo>
                    <a:pt x="658" y="1093"/>
                  </a:lnTo>
                  <a:lnTo>
                    <a:pt x="494" y="1093"/>
                  </a:lnTo>
                  <a:lnTo>
                    <a:pt x="494" y="362"/>
                  </a:lnTo>
                  <a:lnTo>
                    <a:pt x="517" y="309"/>
                  </a:lnTo>
                  <a:lnTo>
                    <a:pt x="561" y="274"/>
                  </a:lnTo>
                  <a:lnTo>
                    <a:pt x="623" y="247"/>
                  </a:lnTo>
                  <a:lnTo>
                    <a:pt x="715" y="243"/>
                  </a:lnTo>
                  <a:lnTo>
                    <a:pt x="822" y="243"/>
                  </a:lnTo>
                  <a:lnTo>
                    <a:pt x="1972" y="243"/>
                  </a:lnTo>
                  <a:lnTo>
                    <a:pt x="1972" y="0"/>
                  </a:lnTo>
                  <a:lnTo>
                    <a:pt x="822" y="0"/>
                  </a:lnTo>
                  <a:lnTo>
                    <a:pt x="662" y="0"/>
                  </a:lnTo>
                  <a:lnTo>
                    <a:pt x="592" y="8"/>
                  </a:lnTo>
                  <a:lnTo>
                    <a:pt x="517" y="22"/>
                  </a:lnTo>
                  <a:lnTo>
                    <a:pt x="464" y="35"/>
                  </a:lnTo>
                  <a:lnTo>
                    <a:pt x="402" y="57"/>
                  </a:lnTo>
                  <a:lnTo>
                    <a:pt x="357" y="79"/>
                  </a:lnTo>
                  <a:lnTo>
                    <a:pt x="300" y="114"/>
                  </a:lnTo>
                  <a:lnTo>
                    <a:pt x="251" y="154"/>
                  </a:lnTo>
                  <a:lnTo>
                    <a:pt x="220" y="199"/>
                  </a:lnTo>
                  <a:lnTo>
                    <a:pt x="185" y="247"/>
                  </a:lnTo>
                  <a:lnTo>
                    <a:pt x="167" y="309"/>
                  </a:lnTo>
                  <a:lnTo>
                    <a:pt x="163" y="362"/>
                  </a:lnTo>
                  <a:lnTo>
                    <a:pt x="163" y="1093"/>
                  </a:lnTo>
                  <a:lnTo>
                    <a:pt x="0" y="109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 txBox="1"/>
          <p:nvPr/>
        </p:nvSpPr>
        <p:spPr>
          <a:xfrm>
            <a:off x="1012680" y="580536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2401920" y="142920"/>
            <a:ext cx="393552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WRIT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546120" y="736560"/>
            <a:ext cx="8371080" cy="2395440"/>
            <a:chOff x="546120" y="736560"/>
            <a:chExt cx="8371080" cy="2395440"/>
          </a:xfrm>
        </p:grpSpPr>
        <p:sp>
          <p:nvSpPr>
            <p:cNvPr id="1654" name=""/>
            <p:cNvSpPr txBox="1"/>
            <p:nvPr/>
          </p:nvSpPr>
          <p:spPr>
            <a:xfrm>
              <a:off x="746280" y="825480"/>
              <a:ext cx="7900920" cy="2306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6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N OUTPUT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MOVE "9334567Frank Curtain  LM051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 "9383715Thomas Healy   LM068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OSE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OP RU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6120" y="736560"/>
              <a:ext cx="8371080" cy="471960"/>
            </a:xfrm>
            <a:custGeom>
              <a:avLst/>
              <a:gdLst/>
              <a:ahLst/>
              <a:rect l="0" t="0" r="r" b="b"/>
              <a:pathLst>
                <a:path w="23253" h="1311">
                  <a:moveTo>
                    <a:pt x="0" y="35"/>
                  </a:moveTo>
                  <a:lnTo>
                    <a:pt x="48" y="141"/>
                  </a:lnTo>
                  <a:lnTo>
                    <a:pt x="149" y="247"/>
                  </a:lnTo>
                  <a:lnTo>
                    <a:pt x="251" y="354"/>
                  </a:lnTo>
                  <a:lnTo>
                    <a:pt x="352" y="496"/>
                  </a:lnTo>
                  <a:lnTo>
                    <a:pt x="502" y="567"/>
                  </a:lnTo>
                  <a:lnTo>
                    <a:pt x="652" y="673"/>
                  </a:lnTo>
                  <a:lnTo>
                    <a:pt x="754" y="779"/>
                  </a:lnTo>
                  <a:lnTo>
                    <a:pt x="855" y="673"/>
                  </a:lnTo>
                  <a:lnTo>
                    <a:pt x="957" y="567"/>
                  </a:lnTo>
                  <a:lnTo>
                    <a:pt x="1107" y="567"/>
                  </a:lnTo>
                  <a:lnTo>
                    <a:pt x="1257" y="567"/>
                  </a:lnTo>
                  <a:lnTo>
                    <a:pt x="1459" y="567"/>
                  </a:lnTo>
                  <a:lnTo>
                    <a:pt x="1609" y="638"/>
                  </a:lnTo>
                  <a:lnTo>
                    <a:pt x="1759" y="673"/>
                  </a:lnTo>
                  <a:lnTo>
                    <a:pt x="1962" y="638"/>
                  </a:lnTo>
                  <a:lnTo>
                    <a:pt x="2112" y="638"/>
                  </a:lnTo>
                  <a:lnTo>
                    <a:pt x="2267" y="602"/>
                  </a:lnTo>
                  <a:lnTo>
                    <a:pt x="2465" y="708"/>
                  </a:lnTo>
                  <a:lnTo>
                    <a:pt x="2615" y="708"/>
                  </a:lnTo>
                  <a:lnTo>
                    <a:pt x="2769" y="673"/>
                  </a:lnTo>
                  <a:lnTo>
                    <a:pt x="2919" y="638"/>
                  </a:lnTo>
                  <a:lnTo>
                    <a:pt x="3069" y="567"/>
                  </a:lnTo>
                  <a:lnTo>
                    <a:pt x="3219" y="567"/>
                  </a:lnTo>
                  <a:lnTo>
                    <a:pt x="3374" y="531"/>
                  </a:lnTo>
                  <a:lnTo>
                    <a:pt x="3625" y="496"/>
                  </a:lnTo>
                  <a:lnTo>
                    <a:pt x="3775" y="496"/>
                  </a:lnTo>
                  <a:lnTo>
                    <a:pt x="3925" y="496"/>
                  </a:lnTo>
                  <a:lnTo>
                    <a:pt x="4075" y="496"/>
                  </a:lnTo>
                  <a:lnTo>
                    <a:pt x="4278" y="638"/>
                  </a:lnTo>
                  <a:lnTo>
                    <a:pt x="4428" y="673"/>
                  </a:lnTo>
                  <a:lnTo>
                    <a:pt x="4578" y="673"/>
                  </a:lnTo>
                  <a:lnTo>
                    <a:pt x="4781" y="638"/>
                  </a:lnTo>
                  <a:lnTo>
                    <a:pt x="4983" y="567"/>
                  </a:lnTo>
                  <a:lnTo>
                    <a:pt x="5283" y="496"/>
                  </a:lnTo>
                  <a:lnTo>
                    <a:pt x="5486" y="425"/>
                  </a:lnTo>
                  <a:lnTo>
                    <a:pt x="5486" y="531"/>
                  </a:lnTo>
                  <a:lnTo>
                    <a:pt x="5685" y="567"/>
                  </a:lnTo>
                  <a:lnTo>
                    <a:pt x="5888" y="567"/>
                  </a:lnTo>
                  <a:lnTo>
                    <a:pt x="6090" y="567"/>
                  </a:lnTo>
                  <a:lnTo>
                    <a:pt x="6289" y="567"/>
                  </a:lnTo>
                  <a:lnTo>
                    <a:pt x="6492" y="638"/>
                  </a:lnTo>
                  <a:lnTo>
                    <a:pt x="6642" y="673"/>
                  </a:lnTo>
                  <a:lnTo>
                    <a:pt x="6845" y="638"/>
                  </a:lnTo>
                  <a:lnTo>
                    <a:pt x="6995" y="638"/>
                  </a:lnTo>
                  <a:lnTo>
                    <a:pt x="7198" y="567"/>
                  </a:lnTo>
                  <a:lnTo>
                    <a:pt x="7449" y="531"/>
                  </a:lnTo>
                  <a:lnTo>
                    <a:pt x="7599" y="496"/>
                  </a:lnTo>
                  <a:lnTo>
                    <a:pt x="7749" y="567"/>
                  </a:lnTo>
                  <a:lnTo>
                    <a:pt x="7903" y="638"/>
                  </a:lnTo>
                  <a:lnTo>
                    <a:pt x="8053" y="638"/>
                  </a:lnTo>
                  <a:lnTo>
                    <a:pt x="8305" y="602"/>
                  </a:lnTo>
                  <a:lnTo>
                    <a:pt x="8507" y="567"/>
                  </a:lnTo>
                  <a:lnTo>
                    <a:pt x="8657" y="496"/>
                  </a:lnTo>
                  <a:lnTo>
                    <a:pt x="8807" y="461"/>
                  </a:lnTo>
                  <a:lnTo>
                    <a:pt x="8957" y="425"/>
                  </a:lnTo>
                  <a:lnTo>
                    <a:pt x="9107" y="425"/>
                  </a:lnTo>
                  <a:lnTo>
                    <a:pt x="9310" y="390"/>
                  </a:lnTo>
                  <a:lnTo>
                    <a:pt x="9513" y="354"/>
                  </a:lnTo>
                  <a:lnTo>
                    <a:pt x="9663" y="390"/>
                  </a:lnTo>
                  <a:lnTo>
                    <a:pt x="9813" y="425"/>
                  </a:lnTo>
                  <a:lnTo>
                    <a:pt x="9963" y="496"/>
                  </a:lnTo>
                  <a:lnTo>
                    <a:pt x="10117" y="496"/>
                  </a:lnTo>
                  <a:lnTo>
                    <a:pt x="10417" y="531"/>
                  </a:lnTo>
                  <a:lnTo>
                    <a:pt x="10620" y="531"/>
                  </a:lnTo>
                  <a:lnTo>
                    <a:pt x="10770" y="567"/>
                  </a:lnTo>
                  <a:lnTo>
                    <a:pt x="10920" y="567"/>
                  </a:lnTo>
                  <a:lnTo>
                    <a:pt x="11675" y="602"/>
                  </a:lnTo>
                  <a:lnTo>
                    <a:pt x="12381" y="638"/>
                  </a:lnTo>
                  <a:lnTo>
                    <a:pt x="12531" y="638"/>
                  </a:lnTo>
                  <a:lnTo>
                    <a:pt x="12782" y="567"/>
                  </a:lnTo>
                  <a:lnTo>
                    <a:pt x="12937" y="567"/>
                  </a:lnTo>
                  <a:lnTo>
                    <a:pt x="13087" y="567"/>
                  </a:lnTo>
                  <a:lnTo>
                    <a:pt x="13237" y="673"/>
                  </a:lnTo>
                  <a:lnTo>
                    <a:pt x="13439" y="673"/>
                  </a:lnTo>
                  <a:lnTo>
                    <a:pt x="13589" y="638"/>
                  </a:lnTo>
                  <a:lnTo>
                    <a:pt x="13841" y="638"/>
                  </a:lnTo>
                  <a:lnTo>
                    <a:pt x="14044" y="602"/>
                  </a:lnTo>
                  <a:lnTo>
                    <a:pt x="14242" y="567"/>
                  </a:lnTo>
                  <a:lnTo>
                    <a:pt x="14397" y="567"/>
                  </a:lnTo>
                  <a:lnTo>
                    <a:pt x="14696" y="567"/>
                  </a:lnTo>
                  <a:lnTo>
                    <a:pt x="14846" y="567"/>
                  </a:lnTo>
                  <a:lnTo>
                    <a:pt x="15049" y="531"/>
                  </a:lnTo>
                  <a:lnTo>
                    <a:pt x="15252" y="531"/>
                  </a:lnTo>
                  <a:lnTo>
                    <a:pt x="15402" y="496"/>
                  </a:lnTo>
                  <a:lnTo>
                    <a:pt x="15755" y="567"/>
                  </a:lnTo>
                  <a:lnTo>
                    <a:pt x="15905" y="602"/>
                  </a:lnTo>
                  <a:lnTo>
                    <a:pt x="16055" y="567"/>
                  </a:lnTo>
                  <a:lnTo>
                    <a:pt x="16205" y="602"/>
                  </a:lnTo>
                  <a:lnTo>
                    <a:pt x="16456" y="638"/>
                  </a:lnTo>
                  <a:lnTo>
                    <a:pt x="16659" y="638"/>
                  </a:lnTo>
                  <a:lnTo>
                    <a:pt x="16862" y="567"/>
                  </a:lnTo>
                  <a:lnTo>
                    <a:pt x="17061" y="673"/>
                  </a:lnTo>
                  <a:lnTo>
                    <a:pt x="17215" y="673"/>
                  </a:lnTo>
                  <a:lnTo>
                    <a:pt x="17413" y="638"/>
                  </a:lnTo>
                  <a:lnTo>
                    <a:pt x="17568" y="638"/>
                  </a:lnTo>
                  <a:lnTo>
                    <a:pt x="17766" y="638"/>
                  </a:lnTo>
                  <a:lnTo>
                    <a:pt x="17969" y="673"/>
                  </a:lnTo>
                  <a:lnTo>
                    <a:pt x="18168" y="638"/>
                  </a:lnTo>
                  <a:lnTo>
                    <a:pt x="18370" y="567"/>
                  </a:lnTo>
                  <a:lnTo>
                    <a:pt x="18520" y="567"/>
                  </a:lnTo>
                  <a:lnTo>
                    <a:pt x="18675" y="567"/>
                  </a:lnTo>
                  <a:lnTo>
                    <a:pt x="18873" y="708"/>
                  </a:lnTo>
                  <a:lnTo>
                    <a:pt x="19076" y="815"/>
                  </a:lnTo>
                  <a:lnTo>
                    <a:pt x="19226" y="779"/>
                  </a:lnTo>
                  <a:lnTo>
                    <a:pt x="19279" y="673"/>
                  </a:lnTo>
                  <a:lnTo>
                    <a:pt x="19478" y="567"/>
                  </a:lnTo>
                  <a:lnTo>
                    <a:pt x="19627" y="496"/>
                  </a:lnTo>
                  <a:lnTo>
                    <a:pt x="19782" y="638"/>
                  </a:lnTo>
                  <a:lnTo>
                    <a:pt x="19932" y="638"/>
                  </a:lnTo>
                  <a:lnTo>
                    <a:pt x="20232" y="779"/>
                  </a:lnTo>
                  <a:lnTo>
                    <a:pt x="20386" y="850"/>
                  </a:lnTo>
                  <a:lnTo>
                    <a:pt x="20536" y="815"/>
                  </a:lnTo>
                  <a:lnTo>
                    <a:pt x="20686" y="885"/>
                  </a:lnTo>
                  <a:lnTo>
                    <a:pt x="20986" y="921"/>
                  </a:lnTo>
                  <a:lnTo>
                    <a:pt x="21140" y="921"/>
                  </a:lnTo>
                  <a:lnTo>
                    <a:pt x="21290" y="850"/>
                  </a:lnTo>
                  <a:lnTo>
                    <a:pt x="21493" y="779"/>
                  </a:lnTo>
                  <a:lnTo>
                    <a:pt x="21643" y="921"/>
                  </a:lnTo>
                  <a:lnTo>
                    <a:pt x="21842" y="956"/>
                  </a:lnTo>
                  <a:lnTo>
                    <a:pt x="21996" y="993"/>
                  </a:lnTo>
                  <a:lnTo>
                    <a:pt x="22296" y="1063"/>
                  </a:lnTo>
                  <a:lnTo>
                    <a:pt x="22446" y="1063"/>
                  </a:lnTo>
                  <a:lnTo>
                    <a:pt x="22600" y="1099"/>
                  </a:lnTo>
                  <a:lnTo>
                    <a:pt x="22750" y="1170"/>
                  </a:lnTo>
                  <a:lnTo>
                    <a:pt x="22900" y="1170"/>
                  </a:lnTo>
                  <a:lnTo>
                    <a:pt x="23103" y="1240"/>
                  </a:lnTo>
                  <a:lnTo>
                    <a:pt x="23253" y="1311"/>
                  </a:lnTo>
                  <a:lnTo>
                    <a:pt x="2320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8272440" y="1465200"/>
            <a:ext cx="798840" cy="3226320"/>
          </a:xfrm>
          <a:custGeom>
            <a:avLst/>
            <a:gdLst/>
            <a:ahLst/>
            <a:rect l="0" t="0" r="r" b="b"/>
            <a:pathLst>
              <a:path fill="none" w="2219" h="8962">
                <a:moveTo>
                  <a:pt x="0" y="8932"/>
                </a:moveTo>
                <a:lnTo>
                  <a:pt x="0" y="8932"/>
                </a:lnTo>
                <a:cubicBezTo>
                  <a:pt x="76" y="8952"/>
                  <a:pt x="153" y="8962"/>
                  <a:pt x="230" y="8962"/>
                </a:cubicBezTo>
                <a:cubicBezTo>
                  <a:pt x="579" y="8962"/>
                  <a:pt x="922" y="8755"/>
                  <a:pt x="1224" y="8362"/>
                </a:cubicBezTo>
                <a:cubicBezTo>
                  <a:pt x="1527" y="7968"/>
                  <a:pt x="1778" y="7403"/>
                  <a:pt x="1952" y="6721"/>
                </a:cubicBezTo>
                <a:cubicBezTo>
                  <a:pt x="2127" y="6040"/>
                  <a:pt x="2219" y="5268"/>
                  <a:pt x="2219" y="4481"/>
                </a:cubicBezTo>
                <a:cubicBezTo>
                  <a:pt x="2219" y="3694"/>
                  <a:pt x="2127" y="2922"/>
                  <a:pt x="1952" y="2240"/>
                </a:cubicBezTo>
                <a:cubicBezTo>
                  <a:pt x="1778" y="1559"/>
                  <a:pt x="1527" y="994"/>
                  <a:pt x="1224" y="600"/>
                </a:cubicBezTo>
                <a:cubicBezTo>
                  <a:pt x="922" y="207"/>
                  <a:pt x="579" y="0"/>
                  <a:pt x="230" y="0"/>
                </a:cubicBezTo>
                <a:cubicBezTo>
                  <a:pt x="229" y="0"/>
                  <a:pt x="228" y="0"/>
                  <a:pt x="227" y="0"/>
                </a:cubicBezTo>
              </a:path>
            </a:pathLst>
          </a:custGeom>
          <a:ln w="25560">
            <a:solidFill>
              <a:srgbClr val="3333cc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425760" y="5208480"/>
            <a:ext cx="1590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938160" y="4159080"/>
            <a:ext cx="7392960" cy="77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29178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18132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344484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370836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96864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42321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4495680" y="45640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7592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02128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528480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55483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58118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6073920" y="4564080"/>
            <a:ext cx="268200" cy="33732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3744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60096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100800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1271520" y="4564080"/>
            <a:ext cx="26676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153180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17953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20588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23223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2584440" y="4564080"/>
            <a:ext cx="2700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69325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71960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745812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772164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7985160" y="4564080"/>
            <a:ext cx="268200" cy="272880"/>
          </a:xfrm>
          <a:prstGeom prst="rect">
            <a:avLst/>
          </a:prstGeom>
          <a:noFill/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1092240" y="4214880"/>
            <a:ext cx="1260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3672000" y="4214880"/>
            <a:ext cx="1654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7050240" y="4178160"/>
            <a:ext cx="1031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889360" y="4195800"/>
            <a:ext cx="0" cy="74304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905520" y="4183200"/>
            <a:ext cx="0" cy="744480"/>
          </a:xfrm>
          <a:prstGeom prst="line">
            <a:avLst/>
          </a:prstGeom>
          <a:ln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944640" y="3773520"/>
            <a:ext cx="1819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28098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0733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3336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600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3862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1259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438948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46530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49150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517860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54421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57056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596592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2294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4929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9698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12333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14940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175752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202104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228456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254628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6756480" y="549108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7018200" y="549108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728172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754524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7808760" y="549108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28098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30733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33368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36003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38624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413856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438948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6530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491508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517860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54421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57056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96592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2294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49296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96984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12333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14940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175752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202104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228456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254628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6756480" y="5765760"/>
            <a:ext cx="2682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70182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728172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7558200" y="5765760"/>
            <a:ext cx="27000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7808760" y="5765760"/>
            <a:ext cx="266760" cy="27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676767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216000" y="4653000"/>
            <a:ext cx="778320" cy="1330560"/>
            <a:chOff x="216000" y="4653000"/>
            <a:chExt cx="778320" cy="1330560"/>
          </a:xfrm>
        </p:grpSpPr>
        <p:sp>
          <p:nvSpPr>
            <p:cNvPr id="1747" name=""/>
            <p:cNvSpPr/>
            <p:nvPr/>
          </p:nvSpPr>
          <p:spPr>
            <a:xfrm>
              <a:off x="282600" y="5321160"/>
              <a:ext cx="711720" cy="662400"/>
            </a:xfrm>
            <a:custGeom>
              <a:avLst/>
              <a:gdLst/>
              <a:ahLst/>
              <a:rect l="0" t="0" r="r" b="b"/>
              <a:pathLst>
                <a:path w="1977" h="1840">
                  <a:moveTo>
                    <a:pt x="1481" y="1840"/>
                  </a:moveTo>
                  <a:lnTo>
                    <a:pt x="1977" y="1535"/>
                  </a:lnTo>
                  <a:lnTo>
                    <a:pt x="1481" y="1225"/>
                  </a:lnTo>
                  <a:lnTo>
                    <a:pt x="1481" y="1381"/>
                  </a:lnTo>
                  <a:lnTo>
                    <a:pt x="490" y="1381"/>
                  </a:lnTo>
                  <a:lnTo>
                    <a:pt x="419" y="1358"/>
                  </a:lnTo>
                  <a:lnTo>
                    <a:pt x="366" y="1318"/>
                  </a:lnTo>
                  <a:lnTo>
                    <a:pt x="340" y="1256"/>
                  </a:lnTo>
                  <a:lnTo>
                    <a:pt x="331" y="1167"/>
                  </a:lnTo>
                  <a:lnTo>
                    <a:pt x="331" y="1075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1075"/>
                  </a:lnTo>
                  <a:lnTo>
                    <a:pt x="0" y="1221"/>
                  </a:lnTo>
                  <a:lnTo>
                    <a:pt x="13" y="1287"/>
                  </a:lnTo>
                  <a:lnTo>
                    <a:pt x="26" y="1358"/>
                  </a:lnTo>
                  <a:lnTo>
                    <a:pt x="44" y="1412"/>
                  </a:lnTo>
                  <a:lnTo>
                    <a:pt x="75" y="1465"/>
                  </a:lnTo>
                  <a:lnTo>
                    <a:pt x="106" y="1509"/>
                  </a:lnTo>
                  <a:lnTo>
                    <a:pt x="154" y="1562"/>
                  </a:lnTo>
                  <a:lnTo>
                    <a:pt x="212" y="1606"/>
                  </a:lnTo>
                  <a:lnTo>
                    <a:pt x="269" y="1637"/>
                  </a:lnTo>
                  <a:lnTo>
                    <a:pt x="335" y="1668"/>
                  </a:lnTo>
                  <a:lnTo>
                    <a:pt x="415" y="1686"/>
                  </a:lnTo>
                  <a:lnTo>
                    <a:pt x="490" y="1686"/>
                  </a:lnTo>
                  <a:lnTo>
                    <a:pt x="1481" y="1686"/>
                  </a:lnTo>
                  <a:lnTo>
                    <a:pt x="1481" y="184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653000"/>
              <a:ext cx="709920" cy="663840"/>
            </a:xfrm>
            <a:custGeom>
              <a:avLst/>
              <a:gdLst/>
              <a:ahLst/>
              <a:rect l="0" t="0" r="r" b="b"/>
              <a:pathLst>
                <a:path w="1972" h="1844">
                  <a:moveTo>
                    <a:pt x="0" y="1384"/>
                  </a:moveTo>
                  <a:lnTo>
                    <a:pt x="327" y="1844"/>
                  </a:lnTo>
                  <a:lnTo>
                    <a:pt x="658" y="1384"/>
                  </a:lnTo>
                  <a:lnTo>
                    <a:pt x="494" y="1384"/>
                  </a:lnTo>
                  <a:lnTo>
                    <a:pt x="494" y="459"/>
                  </a:lnTo>
                  <a:lnTo>
                    <a:pt x="517" y="393"/>
                  </a:lnTo>
                  <a:lnTo>
                    <a:pt x="561" y="344"/>
                  </a:lnTo>
                  <a:lnTo>
                    <a:pt x="623" y="313"/>
                  </a:lnTo>
                  <a:lnTo>
                    <a:pt x="715" y="305"/>
                  </a:lnTo>
                  <a:lnTo>
                    <a:pt x="822" y="305"/>
                  </a:lnTo>
                  <a:lnTo>
                    <a:pt x="1972" y="305"/>
                  </a:lnTo>
                  <a:lnTo>
                    <a:pt x="1972" y="0"/>
                  </a:lnTo>
                  <a:lnTo>
                    <a:pt x="822" y="0"/>
                  </a:lnTo>
                  <a:lnTo>
                    <a:pt x="662" y="0"/>
                  </a:lnTo>
                  <a:lnTo>
                    <a:pt x="592" y="13"/>
                  </a:lnTo>
                  <a:lnTo>
                    <a:pt x="517" y="26"/>
                  </a:lnTo>
                  <a:lnTo>
                    <a:pt x="464" y="44"/>
                  </a:lnTo>
                  <a:lnTo>
                    <a:pt x="402" y="70"/>
                  </a:lnTo>
                  <a:lnTo>
                    <a:pt x="357" y="97"/>
                  </a:lnTo>
                  <a:lnTo>
                    <a:pt x="300" y="145"/>
                  </a:lnTo>
                  <a:lnTo>
                    <a:pt x="251" y="198"/>
                  </a:lnTo>
                  <a:lnTo>
                    <a:pt x="220" y="251"/>
                  </a:lnTo>
                  <a:lnTo>
                    <a:pt x="185" y="313"/>
                  </a:lnTo>
                  <a:lnTo>
                    <a:pt x="167" y="388"/>
                  </a:lnTo>
                  <a:lnTo>
                    <a:pt x="163" y="459"/>
                  </a:lnTo>
                  <a:lnTo>
                    <a:pt x="163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"/>
          <p:cNvSpPr txBox="1"/>
          <p:nvPr/>
        </p:nvSpPr>
        <p:spPr>
          <a:xfrm>
            <a:off x="1000080" y="6097680"/>
            <a:ext cx="650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2401920" y="142920"/>
            <a:ext cx="393552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WRIT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546120" y="736560"/>
            <a:ext cx="8371080" cy="2395440"/>
            <a:chOff x="546120" y="736560"/>
            <a:chExt cx="8371080" cy="2395440"/>
          </a:xfrm>
        </p:grpSpPr>
        <p:sp>
          <p:nvSpPr>
            <p:cNvPr id="1752" name=""/>
            <p:cNvSpPr txBox="1"/>
            <p:nvPr/>
          </p:nvSpPr>
          <p:spPr>
            <a:xfrm>
              <a:off x="746280" y="825480"/>
              <a:ext cx="7900920" cy="2306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1" lang="en-US" sz="16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N OUTPUT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VE "9334567Frank Curtain  LM051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MOVE "9383715Thomas Healy   LM068" TO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cf0e30"/>
                  </a:solidFill>
                  <a:latin typeface="Courier New"/>
                  <a:ea typeface="Courier New"/>
                </a:rPr>
                <a:t>WRITE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OSE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OP RUN</a:t>
              </a:r>
              <a:r>
                <a:rPr b="1" lang="en-US" sz="1800" spc="-1" strike="noStrike">
                  <a:solidFill>
                    <a:srgbClr val="b2b2b2"/>
                  </a:solidFill>
                  <a:latin typeface="Courier New"/>
                  <a:ea typeface="Courier New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46120" y="736560"/>
              <a:ext cx="8371080" cy="471960"/>
            </a:xfrm>
            <a:custGeom>
              <a:avLst/>
              <a:gdLst/>
              <a:ahLst/>
              <a:rect l="0" t="0" r="r" b="b"/>
              <a:pathLst>
                <a:path w="23253" h="1311">
                  <a:moveTo>
                    <a:pt x="0" y="35"/>
                  </a:moveTo>
                  <a:lnTo>
                    <a:pt x="48" y="141"/>
                  </a:lnTo>
                  <a:lnTo>
                    <a:pt x="149" y="247"/>
                  </a:lnTo>
                  <a:lnTo>
                    <a:pt x="251" y="354"/>
                  </a:lnTo>
                  <a:lnTo>
                    <a:pt x="352" y="496"/>
                  </a:lnTo>
                  <a:lnTo>
                    <a:pt x="502" y="567"/>
                  </a:lnTo>
                  <a:lnTo>
                    <a:pt x="652" y="673"/>
                  </a:lnTo>
                  <a:lnTo>
                    <a:pt x="754" y="779"/>
                  </a:lnTo>
                  <a:lnTo>
                    <a:pt x="855" y="673"/>
                  </a:lnTo>
                  <a:lnTo>
                    <a:pt x="957" y="567"/>
                  </a:lnTo>
                  <a:lnTo>
                    <a:pt x="1107" y="567"/>
                  </a:lnTo>
                  <a:lnTo>
                    <a:pt x="1257" y="567"/>
                  </a:lnTo>
                  <a:lnTo>
                    <a:pt x="1459" y="567"/>
                  </a:lnTo>
                  <a:lnTo>
                    <a:pt x="1609" y="638"/>
                  </a:lnTo>
                  <a:lnTo>
                    <a:pt x="1759" y="673"/>
                  </a:lnTo>
                  <a:lnTo>
                    <a:pt x="1962" y="638"/>
                  </a:lnTo>
                  <a:lnTo>
                    <a:pt x="2112" y="638"/>
                  </a:lnTo>
                  <a:lnTo>
                    <a:pt x="2267" y="602"/>
                  </a:lnTo>
                  <a:lnTo>
                    <a:pt x="2465" y="708"/>
                  </a:lnTo>
                  <a:lnTo>
                    <a:pt x="2615" y="708"/>
                  </a:lnTo>
                  <a:lnTo>
                    <a:pt x="2769" y="673"/>
                  </a:lnTo>
                  <a:lnTo>
                    <a:pt x="2919" y="638"/>
                  </a:lnTo>
                  <a:lnTo>
                    <a:pt x="3069" y="567"/>
                  </a:lnTo>
                  <a:lnTo>
                    <a:pt x="3219" y="567"/>
                  </a:lnTo>
                  <a:lnTo>
                    <a:pt x="3374" y="531"/>
                  </a:lnTo>
                  <a:lnTo>
                    <a:pt x="3625" y="496"/>
                  </a:lnTo>
                  <a:lnTo>
                    <a:pt x="3775" y="496"/>
                  </a:lnTo>
                  <a:lnTo>
                    <a:pt x="3925" y="496"/>
                  </a:lnTo>
                  <a:lnTo>
                    <a:pt x="4075" y="496"/>
                  </a:lnTo>
                  <a:lnTo>
                    <a:pt x="4278" y="638"/>
                  </a:lnTo>
                  <a:lnTo>
                    <a:pt x="4428" y="673"/>
                  </a:lnTo>
                  <a:lnTo>
                    <a:pt x="4578" y="673"/>
                  </a:lnTo>
                  <a:lnTo>
                    <a:pt x="4781" y="638"/>
                  </a:lnTo>
                  <a:lnTo>
                    <a:pt x="4983" y="567"/>
                  </a:lnTo>
                  <a:lnTo>
                    <a:pt x="5283" y="496"/>
                  </a:lnTo>
                  <a:lnTo>
                    <a:pt x="5486" y="425"/>
                  </a:lnTo>
                  <a:lnTo>
                    <a:pt x="5486" y="531"/>
                  </a:lnTo>
                  <a:lnTo>
                    <a:pt x="5685" y="567"/>
                  </a:lnTo>
                  <a:lnTo>
                    <a:pt x="5888" y="567"/>
                  </a:lnTo>
                  <a:lnTo>
                    <a:pt x="6090" y="567"/>
                  </a:lnTo>
                  <a:lnTo>
                    <a:pt x="6289" y="567"/>
                  </a:lnTo>
                  <a:lnTo>
                    <a:pt x="6492" y="638"/>
                  </a:lnTo>
                  <a:lnTo>
                    <a:pt x="6642" y="673"/>
                  </a:lnTo>
                  <a:lnTo>
                    <a:pt x="6845" y="638"/>
                  </a:lnTo>
                  <a:lnTo>
                    <a:pt x="6995" y="638"/>
                  </a:lnTo>
                  <a:lnTo>
                    <a:pt x="7198" y="567"/>
                  </a:lnTo>
                  <a:lnTo>
                    <a:pt x="7449" y="531"/>
                  </a:lnTo>
                  <a:lnTo>
                    <a:pt x="7599" y="496"/>
                  </a:lnTo>
                  <a:lnTo>
                    <a:pt x="7749" y="567"/>
                  </a:lnTo>
                  <a:lnTo>
                    <a:pt x="7903" y="638"/>
                  </a:lnTo>
                  <a:lnTo>
                    <a:pt x="8053" y="638"/>
                  </a:lnTo>
                  <a:lnTo>
                    <a:pt x="8305" y="602"/>
                  </a:lnTo>
                  <a:lnTo>
                    <a:pt x="8507" y="567"/>
                  </a:lnTo>
                  <a:lnTo>
                    <a:pt x="8657" y="496"/>
                  </a:lnTo>
                  <a:lnTo>
                    <a:pt x="8807" y="461"/>
                  </a:lnTo>
                  <a:lnTo>
                    <a:pt x="8957" y="425"/>
                  </a:lnTo>
                  <a:lnTo>
                    <a:pt x="9107" y="425"/>
                  </a:lnTo>
                  <a:lnTo>
                    <a:pt x="9310" y="390"/>
                  </a:lnTo>
                  <a:lnTo>
                    <a:pt x="9513" y="354"/>
                  </a:lnTo>
                  <a:lnTo>
                    <a:pt x="9663" y="390"/>
                  </a:lnTo>
                  <a:lnTo>
                    <a:pt x="9813" y="425"/>
                  </a:lnTo>
                  <a:lnTo>
                    <a:pt x="9963" y="496"/>
                  </a:lnTo>
                  <a:lnTo>
                    <a:pt x="10117" y="496"/>
                  </a:lnTo>
                  <a:lnTo>
                    <a:pt x="10417" y="531"/>
                  </a:lnTo>
                  <a:lnTo>
                    <a:pt x="10620" y="531"/>
                  </a:lnTo>
                  <a:lnTo>
                    <a:pt x="10770" y="567"/>
                  </a:lnTo>
                  <a:lnTo>
                    <a:pt x="10920" y="567"/>
                  </a:lnTo>
                  <a:lnTo>
                    <a:pt x="11675" y="602"/>
                  </a:lnTo>
                  <a:lnTo>
                    <a:pt x="12381" y="638"/>
                  </a:lnTo>
                  <a:lnTo>
                    <a:pt x="12531" y="638"/>
                  </a:lnTo>
                  <a:lnTo>
                    <a:pt x="12782" y="567"/>
                  </a:lnTo>
                  <a:lnTo>
                    <a:pt x="12937" y="567"/>
                  </a:lnTo>
                  <a:lnTo>
                    <a:pt x="13087" y="567"/>
                  </a:lnTo>
                  <a:lnTo>
                    <a:pt x="13237" y="673"/>
                  </a:lnTo>
                  <a:lnTo>
                    <a:pt x="13439" y="673"/>
                  </a:lnTo>
                  <a:lnTo>
                    <a:pt x="13589" y="638"/>
                  </a:lnTo>
                  <a:lnTo>
                    <a:pt x="13841" y="638"/>
                  </a:lnTo>
                  <a:lnTo>
                    <a:pt x="14044" y="602"/>
                  </a:lnTo>
                  <a:lnTo>
                    <a:pt x="14242" y="567"/>
                  </a:lnTo>
                  <a:lnTo>
                    <a:pt x="14397" y="567"/>
                  </a:lnTo>
                  <a:lnTo>
                    <a:pt x="14696" y="567"/>
                  </a:lnTo>
                  <a:lnTo>
                    <a:pt x="14846" y="567"/>
                  </a:lnTo>
                  <a:lnTo>
                    <a:pt x="15049" y="531"/>
                  </a:lnTo>
                  <a:lnTo>
                    <a:pt x="15252" y="531"/>
                  </a:lnTo>
                  <a:lnTo>
                    <a:pt x="15402" y="496"/>
                  </a:lnTo>
                  <a:lnTo>
                    <a:pt x="15755" y="567"/>
                  </a:lnTo>
                  <a:lnTo>
                    <a:pt x="15905" y="602"/>
                  </a:lnTo>
                  <a:lnTo>
                    <a:pt x="16055" y="567"/>
                  </a:lnTo>
                  <a:lnTo>
                    <a:pt x="16205" y="602"/>
                  </a:lnTo>
                  <a:lnTo>
                    <a:pt x="16456" y="638"/>
                  </a:lnTo>
                  <a:lnTo>
                    <a:pt x="16659" y="638"/>
                  </a:lnTo>
                  <a:lnTo>
                    <a:pt x="16862" y="567"/>
                  </a:lnTo>
                  <a:lnTo>
                    <a:pt x="17061" y="673"/>
                  </a:lnTo>
                  <a:lnTo>
                    <a:pt x="17215" y="673"/>
                  </a:lnTo>
                  <a:lnTo>
                    <a:pt x="17413" y="638"/>
                  </a:lnTo>
                  <a:lnTo>
                    <a:pt x="17568" y="638"/>
                  </a:lnTo>
                  <a:lnTo>
                    <a:pt x="17766" y="638"/>
                  </a:lnTo>
                  <a:lnTo>
                    <a:pt x="17969" y="673"/>
                  </a:lnTo>
                  <a:lnTo>
                    <a:pt x="18168" y="638"/>
                  </a:lnTo>
                  <a:lnTo>
                    <a:pt x="18370" y="567"/>
                  </a:lnTo>
                  <a:lnTo>
                    <a:pt x="18520" y="567"/>
                  </a:lnTo>
                  <a:lnTo>
                    <a:pt x="18675" y="567"/>
                  </a:lnTo>
                  <a:lnTo>
                    <a:pt x="18873" y="708"/>
                  </a:lnTo>
                  <a:lnTo>
                    <a:pt x="19076" y="815"/>
                  </a:lnTo>
                  <a:lnTo>
                    <a:pt x="19226" y="779"/>
                  </a:lnTo>
                  <a:lnTo>
                    <a:pt x="19279" y="673"/>
                  </a:lnTo>
                  <a:lnTo>
                    <a:pt x="19478" y="567"/>
                  </a:lnTo>
                  <a:lnTo>
                    <a:pt x="19627" y="496"/>
                  </a:lnTo>
                  <a:lnTo>
                    <a:pt x="19782" y="638"/>
                  </a:lnTo>
                  <a:lnTo>
                    <a:pt x="19932" y="638"/>
                  </a:lnTo>
                  <a:lnTo>
                    <a:pt x="20232" y="779"/>
                  </a:lnTo>
                  <a:lnTo>
                    <a:pt x="20386" y="850"/>
                  </a:lnTo>
                  <a:lnTo>
                    <a:pt x="20536" y="815"/>
                  </a:lnTo>
                  <a:lnTo>
                    <a:pt x="20686" y="885"/>
                  </a:lnTo>
                  <a:lnTo>
                    <a:pt x="20986" y="921"/>
                  </a:lnTo>
                  <a:lnTo>
                    <a:pt x="21140" y="921"/>
                  </a:lnTo>
                  <a:lnTo>
                    <a:pt x="21290" y="850"/>
                  </a:lnTo>
                  <a:lnTo>
                    <a:pt x="21493" y="779"/>
                  </a:lnTo>
                  <a:lnTo>
                    <a:pt x="21643" y="921"/>
                  </a:lnTo>
                  <a:lnTo>
                    <a:pt x="21842" y="956"/>
                  </a:lnTo>
                  <a:lnTo>
                    <a:pt x="21996" y="993"/>
                  </a:lnTo>
                  <a:lnTo>
                    <a:pt x="22296" y="1063"/>
                  </a:lnTo>
                  <a:lnTo>
                    <a:pt x="22446" y="1063"/>
                  </a:lnTo>
                  <a:lnTo>
                    <a:pt x="22600" y="1099"/>
                  </a:lnTo>
                  <a:lnTo>
                    <a:pt x="22750" y="1170"/>
                  </a:lnTo>
                  <a:lnTo>
                    <a:pt x="22900" y="1170"/>
                  </a:lnTo>
                  <a:lnTo>
                    <a:pt x="23103" y="1240"/>
                  </a:lnTo>
                  <a:lnTo>
                    <a:pt x="23253" y="1311"/>
                  </a:lnTo>
                  <a:lnTo>
                    <a:pt x="2320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8311320" y="2011320"/>
            <a:ext cx="759960" cy="2679840"/>
          </a:xfrm>
          <a:custGeom>
            <a:avLst/>
            <a:gdLst/>
            <a:ahLst/>
            <a:rect l="0" t="0" r="r" b="b"/>
            <a:pathLst>
              <a:path fill="none" w="2111" h="7444">
                <a:moveTo>
                  <a:pt x="0" y="7419"/>
                </a:moveTo>
                <a:lnTo>
                  <a:pt x="0" y="7419"/>
                </a:lnTo>
                <a:cubicBezTo>
                  <a:pt x="73" y="7436"/>
                  <a:pt x="146" y="7444"/>
                  <a:pt x="219" y="7444"/>
                </a:cubicBezTo>
                <a:cubicBezTo>
                  <a:pt x="551" y="7444"/>
                  <a:pt x="877" y="7272"/>
                  <a:pt x="1165" y="6945"/>
                </a:cubicBezTo>
                <a:cubicBezTo>
                  <a:pt x="1452" y="6619"/>
                  <a:pt x="1691" y="6149"/>
                  <a:pt x="1857" y="5583"/>
                </a:cubicBezTo>
                <a:cubicBezTo>
                  <a:pt x="2023" y="5017"/>
                  <a:pt x="2111" y="4375"/>
                  <a:pt x="2111" y="3722"/>
                </a:cubicBezTo>
                <a:cubicBezTo>
                  <a:pt x="2111" y="3069"/>
                  <a:pt x="2023" y="2427"/>
                  <a:pt x="1857" y="1861"/>
                </a:cubicBezTo>
                <a:cubicBezTo>
                  <a:pt x="1691" y="1295"/>
                  <a:pt x="1452" y="825"/>
                  <a:pt x="1165" y="499"/>
                </a:cubicBezTo>
                <a:cubicBezTo>
                  <a:pt x="878" y="172"/>
                  <a:pt x="552" y="0"/>
                  <a:pt x="220" y="0"/>
                </a:cubicBezTo>
              </a:path>
            </a:pathLst>
          </a:custGeom>
          <a:ln w="25560">
            <a:solidFill>
              <a:srgbClr val="3333cc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3425760" y="5208480"/>
            <a:ext cx="1590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s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228600" y="290520"/>
            <a:ext cx="8128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074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89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" descr=""/>
          <p:cNvPicPr/>
          <p:nvPr/>
        </p:nvPicPr>
        <p:blipFill>
          <a:blip r:embed="rId1"/>
          <a:stretch/>
        </p:blipFill>
        <p:spPr>
          <a:xfrm>
            <a:off x="457200" y="95400"/>
            <a:ext cx="81057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762120" y="0"/>
            <a:ext cx="73501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s of Data Sets: Sequential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tioned &amp; V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8088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uential data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records written and read in sequential order from beginning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tioned data set (P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llection of sequential data sets, called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directory and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quential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001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data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Storage Access Metho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ore advanced capabilities in terms of storage an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1143000" y="838080"/>
            <a:ext cx="7161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Organization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384120" y="317520"/>
            <a:ext cx="8370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9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 txBox="1"/>
          <p:nvPr/>
        </p:nvSpPr>
        <p:spPr>
          <a:xfrm>
            <a:off x="228600" y="1233360"/>
            <a:ext cx="8523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n ESDS are stored in the order in which they are written and are retrieved by addressed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are loaded irrespective of their contents and their byte addresses cannot 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DS is also referred to 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VS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set. This is because records in an ESDS are normally processed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DS is best suited for applications where most processing is done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files may be Ordered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Un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914400" y="380880"/>
            <a:ext cx="6770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ry-Sequenced Data Set (Sequent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609480" y="914400"/>
            <a:ext cx="78231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asy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ords to an unordered Sequential file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 Sequential file can not be deleted or updated “in situ” (unless the same size record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way to update records in a Sequential File is to create a new file which contains the updated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way to delete Sequential file records is to create a new file which does not contai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685800" y="152280"/>
            <a:ext cx="78249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Problems with Sequential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 txBox="1"/>
          <p:nvPr/>
        </p:nvSpPr>
        <p:spPr>
          <a:xfrm>
            <a:off x="960480" y="-46080"/>
            <a:ext cx="8048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960480" y="-46080"/>
            <a:ext cx="8048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5994360" y="1663560"/>
            <a:ext cx="2819520" cy="47242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 txBox="1"/>
          <p:nvPr/>
        </p:nvSpPr>
        <p:spPr>
          <a:xfrm>
            <a:off x="330120" y="1663560"/>
            <a:ext cx="2819520" cy="4648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340080" y="1995480"/>
            <a:ext cx="1187640" cy="1376640"/>
          </a:xfrm>
          <a:custGeom>
            <a:avLst/>
            <a:gdLst/>
            <a:ahLst/>
            <a:rect l="0" t="0" r="r" b="b"/>
            <a:pathLst>
              <a:path fill="none" w="3299" h="3824">
                <a:moveTo>
                  <a:pt x="0" y="3824"/>
                </a:moveTo>
                <a:lnTo>
                  <a:pt x="0" y="3824"/>
                </a:lnTo>
                <a:lnTo>
                  <a:pt x="0" y="3824"/>
                </a:lnTo>
                <a:cubicBezTo>
                  <a:pt x="579" y="3824"/>
                  <a:pt x="1148" y="3647"/>
                  <a:pt x="1650" y="3311"/>
                </a:cubicBezTo>
                <a:cubicBezTo>
                  <a:pt x="2151" y="2975"/>
                  <a:pt x="2567" y="2492"/>
                  <a:pt x="2857" y="1910"/>
                </a:cubicBezTo>
                <a:cubicBezTo>
                  <a:pt x="3146" y="1329"/>
                  <a:pt x="3298" y="671"/>
                  <a:pt x="329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575240" y="1994040"/>
            <a:ext cx="1327680" cy="3677040"/>
          </a:xfrm>
          <a:custGeom>
            <a:avLst/>
            <a:gdLst/>
            <a:ahLst/>
            <a:rect l="0" t="0" r="r" b="b"/>
            <a:pathLst>
              <a:path fill="none" w="3688" h="10214">
                <a:moveTo>
                  <a:pt x="0" y="0"/>
                </a:moveTo>
                <a:lnTo>
                  <a:pt x="0" y="0"/>
                </a:lnTo>
                <a:cubicBezTo>
                  <a:pt x="0" y="1793"/>
                  <a:pt x="170" y="3554"/>
                  <a:pt x="494" y="5107"/>
                </a:cubicBezTo>
                <a:cubicBezTo>
                  <a:pt x="818" y="6660"/>
                  <a:pt x="1283" y="7949"/>
                  <a:pt x="1844" y="8846"/>
                </a:cubicBezTo>
                <a:cubicBezTo>
                  <a:pt x="2405" y="9742"/>
                  <a:pt x="3041" y="10214"/>
                  <a:pt x="3688" y="1021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060960" y="590544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96720" y="5854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 txBox="1"/>
          <p:nvPr/>
        </p:nvSpPr>
        <p:spPr>
          <a:xfrm>
            <a:off x="558720" y="-7920"/>
            <a:ext cx="82962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558720" y="-7920"/>
            <a:ext cx="82962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5994360" y="1663560"/>
            <a:ext cx="2819520" cy="37846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330120" y="1663560"/>
            <a:ext cx="2819520" cy="37591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251160" y="1996200"/>
            <a:ext cx="1276560" cy="2010960"/>
          </a:xfrm>
          <a:custGeom>
            <a:avLst/>
            <a:gdLst/>
            <a:ahLst/>
            <a:rect l="0" t="0" r="r" b="b"/>
            <a:pathLst>
              <a:path fill="none" w="3546" h="5586">
                <a:moveTo>
                  <a:pt x="0" y="5586"/>
                </a:moveTo>
                <a:lnTo>
                  <a:pt x="0" y="5586"/>
                </a:lnTo>
                <a:lnTo>
                  <a:pt x="0" y="5586"/>
                </a:lnTo>
                <a:cubicBezTo>
                  <a:pt x="622" y="5586"/>
                  <a:pt x="1234" y="5328"/>
                  <a:pt x="1773" y="4837"/>
                </a:cubicBezTo>
                <a:cubicBezTo>
                  <a:pt x="2312" y="4346"/>
                  <a:pt x="2760" y="3640"/>
                  <a:pt x="3071" y="2790"/>
                </a:cubicBezTo>
                <a:cubicBezTo>
                  <a:pt x="3382" y="1942"/>
                  <a:pt x="3545" y="980"/>
                  <a:pt x="354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575240" y="1994040"/>
            <a:ext cx="1365480" cy="209880"/>
          </a:xfrm>
          <a:custGeom>
            <a:avLst/>
            <a:gdLst/>
            <a:ahLst/>
            <a:rect l="0" t="0" r="r" b="b"/>
            <a:pathLst>
              <a:path fill="none" w="3793" h="583">
                <a:moveTo>
                  <a:pt x="0" y="0"/>
                </a:moveTo>
                <a:lnTo>
                  <a:pt x="0" y="0"/>
                </a:lnTo>
                <a:cubicBezTo>
                  <a:pt x="0" y="102"/>
                  <a:pt x="175" y="203"/>
                  <a:pt x="508" y="292"/>
                </a:cubicBezTo>
                <a:cubicBezTo>
                  <a:pt x="841" y="380"/>
                  <a:pt x="1320" y="454"/>
                  <a:pt x="1897" y="505"/>
                </a:cubicBezTo>
                <a:cubicBezTo>
                  <a:pt x="2473" y="556"/>
                  <a:pt x="3127" y="583"/>
                  <a:pt x="3793" y="58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 txBox="1"/>
          <p:nvPr/>
        </p:nvSpPr>
        <p:spPr>
          <a:xfrm>
            <a:off x="393840" y="-84240"/>
            <a:ext cx="8731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314880" y="1995840"/>
            <a:ext cx="1213200" cy="1795320"/>
          </a:xfrm>
          <a:custGeom>
            <a:avLst/>
            <a:gdLst/>
            <a:ahLst/>
            <a:rect l="0" t="0" r="r" b="b"/>
            <a:pathLst>
              <a:path fill="none" w="3370" h="4987">
                <a:moveTo>
                  <a:pt x="0" y="4987"/>
                </a:moveTo>
                <a:lnTo>
                  <a:pt x="0" y="4987"/>
                </a:lnTo>
                <a:lnTo>
                  <a:pt x="0" y="4987"/>
                </a:lnTo>
                <a:cubicBezTo>
                  <a:pt x="592" y="4987"/>
                  <a:pt x="1173" y="4756"/>
                  <a:pt x="1685" y="4318"/>
                </a:cubicBezTo>
                <a:cubicBezTo>
                  <a:pt x="2197" y="3880"/>
                  <a:pt x="2623" y="3250"/>
                  <a:pt x="2919" y="2491"/>
                </a:cubicBezTo>
                <a:cubicBezTo>
                  <a:pt x="3214" y="1734"/>
                  <a:pt x="3369" y="875"/>
                  <a:pt x="337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575240" y="1994040"/>
            <a:ext cx="1175040" cy="1822680"/>
          </a:xfrm>
          <a:custGeom>
            <a:avLst/>
            <a:gdLst/>
            <a:ahLst/>
            <a:rect l="0" t="0" r="r" b="b"/>
            <a:pathLst>
              <a:path fill="none" w="3264" h="5063">
                <a:moveTo>
                  <a:pt x="0" y="0"/>
                </a:moveTo>
                <a:lnTo>
                  <a:pt x="0" y="0"/>
                </a:lnTo>
                <a:cubicBezTo>
                  <a:pt x="0" y="889"/>
                  <a:pt x="151" y="1762"/>
                  <a:pt x="437" y="2532"/>
                </a:cubicBezTo>
                <a:cubicBezTo>
                  <a:pt x="724" y="3301"/>
                  <a:pt x="1136" y="3940"/>
                  <a:pt x="1632" y="4385"/>
                </a:cubicBezTo>
                <a:cubicBezTo>
                  <a:pt x="2128" y="4829"/>
                  <a:pt x="2691" y="5063"/>
                  <a:pt x="3264" y="506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8080" y="0"/>
            <a:ext cx="661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 Data Set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52280" y="68580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characteristics of data fil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F ACCES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rga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way the records of the file are organized on the backing storage de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Records organized seria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Relative record number based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Index based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2349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f a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s to the way in which records are acce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Accessed in sequenc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Specify a key to get the data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9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87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Can access sequentially or random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93840" y="-84240"/>
            <a:ext cx="8731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quential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3746520" y="12952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5994360" y="1663560"/>
            <a:ext cx="2819520" cy="42544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6096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06096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06096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06096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06096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06096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6096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06096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355680" y="1270080"/>
            <a:ext cx="2755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61960" y="166356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30120" y="1663560"/>
            <a:ext cx="2819520" cy="420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4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^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96720" y="2184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96720" y="2641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96720" y="3098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96720" y="35560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96720" y="40132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96720" y="53848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96720" y="49276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96720" y="447048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6006960" y="1320840"/>
            <a:ext cx="27558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Un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263760" y="1994760"/>
            <a:ext cx="1263960" cy="882000"/>
          </a:xfrm>
          <a:custGeom>
            <a:avLst/>
            <a:gdLst/>
            <a:ahLst/>
            <a:rect l="0" t="0" r="r" b="b"/>
            <a:pathLst>
              <a:path fill="none" w="3511" h="2450">
                <a:moveTo>
                  <a:pt x="0" y="2450"/>
                </a:moveTo>
                <a:lnTo>
                  <a:pt x="0" y="2450"/>
                </a:lnTo>
                <a:lnTo>
                  <a:pt x="0" y="2450"/>
                </a:lnTo>
                <a:cubicBezTo>
                  <a:pt x="616" y="2450"/>
                  <a:pt x="1222" y="2337"/>
                  <a:pt x="1756" y="2121"/>
                </a:cubicBezTo>
                <a:cubicBezTo>
                  <a:pt x="2289" y="1906"/>
                  <a:pt x="2732" y="1597"/>
                  <a:pt x="3041" y="1224"/>
                </a:cubicBezTo>
                <a:cubicBezTo>
                  <a:pt x="3348" y="852"/>
                  <a:pt x="3510" y="430"/>
                  <a:pt x="351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575240" y="1994040"/>
            <a:ext cx="1352880" cy="1746720"/>
          </a:xfrm>
          <a:custGeom>
            <a:avLst/>
            <a:gdLst/>
            <a:ahLst/>
            <a:rect l="0" t="0" r="r" b="b"/>
            <a:pathLst>
              <a:path fill="none" w="3758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74" y="1688"/>
                  <a:pt x="503" y="2426"/>
                </a:cubicBezTo>
                <a:cubicBezTo>
                  <a:pt x="833" y="3164"/>
                  <a:pt x="1308" y="3776"/>
                  <a:pt x="1879" y="4202"/>
                </a:cubicBezTo>
                <a:cubicBezTo>
                  <a:pt x="2450" y="4628"/>
                  <a:pt x="3098" y="4852"/>
                  <a:pt x="3758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" descr=""/>
          <p:cNvPicPr/>
          <p:nvPr/>
        </p:nvPicPr>
        <p:blipFill>
          <a:blip r:embed="rId1"/>
          <a:stretch/>
        </p:blipFill>
        <p:spPr>
          <a:xfrm>
            <a:off x="596880" y="1100160"/>
            <a:ext cx="7848720" cy="5745240"/>
          </a:xfrm>
          <a:prstGeom prst="rect">
            <a:avLst/>
          </a:prstGeom>
          <a:ln w="0">
            <a:noFill/>
          </a:ln>
        </p:spPr>
      </p:pic>
      <p:pic>
        <p:nvPicPr>
          <p:cNvPr id="196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929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 txBox="1"/>
          <p:nvPr/>
        </p:nvSpPr>
        <p:spPr>
          <a:xfrm>
            <a:off x="990720" y="152280"/>
            <a:ext cx="69642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Record Data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228600" y="1066680"/>
            <a:ext cx="4925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n RRDS are loaded into fixed-length or variable length slots. These records are represented by the Relative Record Numbers (RRNs) of their sl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ing program uses RRN to provide random access to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s in an RRDS can also be accessed sequentially in its RRN order. It is also possible to convert key values into R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202360" y="1519200"/>
            <a:ext cx="3500280" cy="4734000"/>
          </a:xfrm>
          <a:prstGeom prst="rect">
            <a:avLst/>
          </a:prstGeom>
          <a:noFill/>
          <a:ln w="12600">
            <a:solidFill>
              <a:srgbClr val="0099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5557680" y="2987640"/>
            <a:ext cx="3173400" cy="1814760"/>
            <a:chOff x="5557680" y="2987640"/>
            <a:chExt cx="3173400" cy="1814760"/>
          </a:xfrm>
        </p:grpSpPr>
        <p:sp>
          <p:nvSpPr>
            <p:cNvPr id="1971" name=""/>
            <p:cNvSpPr txBox="1"/>
            <p:nvPr/>
          </p:nvSpPr>
          <p:spPr>
            <a:xfrm>
              <a:off x="55576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2434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 txBox="1"/>
            <p:nvPr/>
          </p:nvSpPr>
          <p:spPr>
            <a:xfrm>
              <a:off x="69292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 txBox="1"/>
            <p:nvPr/>
          </p:nvSpPr>
          <p:spPr>
            <a:xfrm>
              <a:off x="7615080" y="3424320"/>
              <a:ext cx="695160" cy="466560"/>
            </a:xfrm>
            <a:prstGeom prst="rect">
              <a:avLst/>
            </a:prstGeom>
            <a:solidFill>
              <a:srgbClr val="bdda88"/>
            </a:solidFill>
            <a:ln w="12600">
              <a:solidFill>
                <a:srgbClr val="80808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 txBox="1"/>
            <p:nvPr/>
          </p:nvSpPr>
          <p:spPr>
            <a:xfrm>
              <a:off x="5638680" y="298764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 txBox="1"/>
            <p:nvPr/>
          </p:nvSpPr>
          <p:spPr>
            <a:xfrm>
              <a:off x="5791320" y="391968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 txBox="1"/>
            <p:nvPr/>
          </p:nvSpPr>
          <p:spPr>
            <a:xfrm>
              <a:off x="647712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 txBox="1"/>
            <p:nvPr/>
          </p:nvSpPr>
          <p:spPr>
            <a:xfrm>
              <a:off x="712296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 txBox="1"/>
            <p:nvPr/>
          </p:nvSpPr>
          <p:spPr>
            <a:xfrm>
              <a:off x="7848720" y="392436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 txBox="1"/>
            <p:nvPr/>
          </p:nvSpPr>
          <p:spPr>
            <a:xfrm>
              <a:off x="6172200" y="4435560"/>
              <a:ext cx="2558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ative Record Num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 txBox="1"/>
          <p:nvPr/>
        </p:nvSpPr>
        <p:spPr>
          <a:xfrm>
            <a:off x="1106640" y="-46080"/>
            <a:ext cx="66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992160" y="-46080"/>
            <a:ext cx="75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"/>
          <p:cNvSpPr txBox="1"/>
          <p:nvPr/>
        </p:nvSpPr>
        <p:spPr>
          <a:xfrm>
            <a:off x="992160" y="-46080"/>
            <a:ext cx="755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d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880240" y="2441880"/>
            <a:ext cx="1937160" cy="3254400"/>
          </a:xfrm>
          <a:custGeom>
            <a:avLst/>
            <a:gdLst/>
            <a:ahLst/>
            <a:rect l="0" t="0" r="r" b="b"/>
            <a:pathLst>
              <a:path fill="none" w="5381" h="9040">
                <a:moveTo>
                  <a:pt x="0" y="9040"/>
                </a:moveTo>
                <a:lnTo>
                  <a:pt x="0" y="9040"/>
                </a:lnTo>
                <a:lnTo>
                  <a:pt x="0" y="9040"/>
                </a:lnTo>
                <a:cubicBezTo>
                  <a:pt x="945" y="9040"/>
                  <a:pt x="1872" y="8622"/>
                  <a:pt x="2691" y="7828"/>
                </a:cubicBezTo>
                <a:cubicBezTo>
                  <a:pt x="3509" y="7033"/>
                  <a:pt x="4188" y="5891"/>
                  <a:pt x="4660" y="4515"/>
                </a:cubicBezTo>
                <a:cubicBezTo>
                  <a:pt x="5131" y="3142"/>
                  <a:pt x="5380" y="1585"/>
                  <a:pt x="538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 txBox="1"/>
          <p:nvPr/>
        </p:nvSpPr>
        <p:spPr>
          <a:xfrm>
            <a:off x="666720" y="-58680"/>
            <a:ext cx="7799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666720" y="-58680"/>
            <a:ext cx="7799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Delet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deleted/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829480" y="2390400"/>
            <a:ext cx="1911600" cy="2429640"/>
          </a:xfrm>
          <a:custGeom>
            <a:avLst/>
            <a:gdLst/>
            <a:ahLst/>
            <a:rect l="0" t="0" r="r" b="b"/>
            <a:pathLst>
              <a:path fill="none" w="5310" h="6749">
                <a:moveTo>
                  <a:pt x="0" y="6749"/>
                </a:moveTo>
                <a:lnTo>
                  <a:pt x="0" y="6749"/>
                </a:lnTo>
                <a:lnTo>
                  <a:pt x="0" y="6749"/>
                </a:lnTo>
                <a:cubicBezTo>
                  <a:pt x="932" y="6749"/>
                  <a:pt x="1848" y="6437"/>
                  <a:pt x="2655" y="5844"/>
                </a:cubicBezTo>
                <a:cubicBezTo>
                  <a:pt x="3462" y="5251"/>
                  <a:pt x="4133" y="4398"/>
                  <a:pt x="4599" y="3371"/>
                </a:cubicBezTo>
                <a:cubicBezTo>
                  <a:pt x="5064" y="2346"/>
                  <a:pt x="5309" y="1184"/>
                  <a:pt x="531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488880" y="-20520"/>
            <a:ext cx="82342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ec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488880" y="-20520"/>
            <a:ext cx="82342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ve Files - Amending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2984400" y="851040"/>
            <a:ext cx="2819520" cy="5600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9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051000" y="1371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3051000" y="1828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051000" y="2286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3051000" y="2743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051000" y="3200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2565360" y="1023840"/>
            <a:ext cx="38088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00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051000" y="3657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051000" y="41148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051000" y="45720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051000" y="50292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51000" y="59436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051000" y="5486400"/>
            <a:ext cx="2708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933640" y="4051440"/>
            <a:ext cx="2922840" cy="586080"/>
          </a:xfrm>
          <a:custGeom>
            <a:avLst/>
            <a:gdLst/>
            <a:ahLst/>
            <a:rect l="0" t="0" r="r" b="b"/>
            <a:pathLst>
              <a:path w="8119" h="1628">
                <a:moveTo>
                  <a:pt x="0" y="141"/>
                </a:moveTo>
                <a:lnTo>
                  <a:pt x="70" y="247"/>
                </a:lnTo>
                <a:lnTo>
                  <a:pt x="211" y="282"/>
                </a:lnTo>
                <a:lnTo>
                  <a:pt x="317" y="353"/>
                </a:lnTo>
                <a:lnTo>
                  <a:pt x="458" y="353"/>
                </a:lnTo>
                <a:lnTo>
                  <a:pt x="564" y="353"/>
                </a:lnTo>
                <a:lnTo>
                  <a:pt x="670" y="318"/>
                </a:lnTo>
                <a:lnTo>
                  <a:pt x="776" y="247"/>
                </a:lnTo>
                <a:lnTo>
                  <a:pt x="917" y="212"/>
                </a:lnTo>
                <a:lnTo>
                  <a:pt x="1058" y="176"/>
                </a:lnTo>
                <a:lnTo>
                  <a:pt x="1164" y="141"/>
                </a:lnTo>
                <a:lnTo>
                  <a:pt x="1270" y="106"/>
                </a:lnTo>
                <a:lnTo>
                  <a:pt x="1376" y="70"/>
                </a:lnTo>
                <a:lnTo>
                  <a:pt x="1482" y="35"/>
                </a:lnTo>
                <a:lnTo>
                  <a:pt x="1553" y="141"/>
                </a:lnTo>
                <a:lnTo>
                  <a:pt x="1658" y="176"/>
                </a:lnTo>
                <a:lnTo>
                  <a:pt x="1764" y="247"/>
                </a:lnTo>
                <a:lnTo>
                  <a:pt x="1906" y="318"/>
                </a:lnTo>
                <a:lnTo>
                  <a:pt x="2011" y="353"/>
                </a:lnTo>
                <a:lnTo>
                  <a:pt x="2117" y="389"/>
                </a:lnTo>
                <a:lnTo>
                  <a:pt x="2223" y="424"/>
                </a:lnTo>
                <a:lnTo>
                  <a:pt x="2329" y="424"/>
                </a:lnTo>
                <a:lnTo>
                  <a:pt x="2470" y="353"/>
                </a:lnTo>
                <a:lnTo>
                  <a:pt x="2576" y="353"/>
                </a:lnTo>
                <a:lnTo>
                  <a:pt x="2682" y="282"/>
                </a:lnTo>
                <a:lnTo>
                  <a:pt x="2788" y="282"/>
                </a:lnTo>
                <a:lnTo>
                  <a:pt x="2894" y="212"/>
                </a:lnTo>
                <a:lnTo>
                  <a:pt x="3000" y="176"/>
                </a:lnTo>
                <a:lnTo>
                  <a:pt x="3106" y="141"/>
                </a:lnTo>
                <a:lnTo>
                  <a:pt x="3212" y="176"/>
                </a:lnTo>
                <a:lnTo>
                  <a:pt x="3317" y="247"/>
                </a:lnTo>
                <a:lnTo>
                  <a:pt x="3423" y="318"/>
                </a:lnTo>
                <a:lnTo>
                  <a:pt x="3529" y="353"/>
                </a:lnTo>
                <a:lnTo>
                  <a:pt x="3635" y="389"/>
                </a:lnTo>
                <a:lnTo>
                  <a:pt x="3741" y="424"/>
                </a:lnTo>
                <a:lnTo>
                  <a:pt x="3847" y="459"/>
                </a:lnTo>
                <a:lnTo>
                  <a:pt x="3988" y="459"/>
                </a:lnTo>
                <a:lnTo>
                  <a:pt x="4095" y="459"/>
                </a:lnTo>
                <a:lnTo>
                  <a:pt x="4201" y="424"/>
                </a:lnTo>
                <a:lnTo>
                  <a:pt x="4307" y="389"/>
                </a:lnTo>
                <a:lnTo>
                  <a:pt x="4448" y="424"/>
                </a:lnTo>
                <a:lnTo>
                  <a:pt x="4554" y="495"/>
                </a:lnTo>
                <a:lnTo>
                  <a:pt x="4660" y="495"/>
                </a:lnTo>
                <a:lnTo>
                  <a:pt x="4766" y="495"/>
                </a:lnTo>
                <a:lnTo>
                  <a:pt x="4871" y="424"/>
                </a:lnTo>
                <a:lnTo>
                  <a:pt x="4977" y="389"/>
                </a:lnTo>
                <a:lnTo>
                  <a:pt x="5083" y="318"/>
                </a:lnTo>
                <a:lnTo>
                  <a:pt x="5189" y="282"/>
                </a:lnTo>
                <a:lnTo>
                  <a:pt x="5295" y="282"/>
                </a:lnTo>
                <a:lnTo>
                  <a:pt x="5436" y="176"/>
                </a:lnTo>
                <a:lnTo>
                  <a:pt x="5542" y="141"/>
                </a:lnTo>
                <a:lnTo>
                  <a:pt x="5648" y="106"/>
                </a:lnTo>
                <a:lnTo>
                  <a:pt x="5754" y="0"/>
                </a:lnTo>
                <a:lnTo>
                  <a:pt x="5860" y="70"/>
                </a:lnTo>
                <a:lnTo>
                  <a:pt x="5966" y="141"/>
                </a:lnTo>
                <a:lnTo>
                  <a:pt x="6072" y="176"/>
                </a:lnTo>
                <a:lnTo>
                  <a:pt x="6177" y="212"/>
                </a:lnTo>
                <a:lnTo>
                  <a:pt x="6283" y="282"/>
                </a:lnTo>
                <a:lnTo>
                  <a:pt x="6389" y="318"/>
                </a:lnTo>
                <a:lnTo>
                  <a:pt x="6530" y="353"/>
                </a:lnTo>
                <a:lnTo>
                  <a:pt x="6636" y="353"/>
                </a:lnTo>
                <a:lnTo>
                  <a:pt x="6742" y="389"/>
                </a:lnTo>
                <a:lnTo>
                  <a:pt x="6848" y="424"/>
                </a:lnTo>
                <a:lnTo>
                  <a:pt x="6954" y="424"/>
                </a:lnTo>
                <a:lnTo>
                  <a:pt x="7060" y="424"/>
                </a:lnTo>
                <a:lnTo>
                  <a:pt x="7166" y="353"/>
                </a:lnTo>
                <a:lnTo>
                  <a:pt x="7272" y="318"/>
                </a:lnTo>
                <a:lnTo>
                  <a:pt x="7378" y="282"/>
                </a:lnTo>
                <a:lnTo>
                  <a:pt x="7483" y="282"/>
                </a:lnTo>
                <a:lnTo>
                  <a:pt x="7589" y="212"/>
                </a:lnTo>
                <a:lnTo>
                  <a:pt x="7695" y="212"/>
                </a:lnTo>
                <a:lnTo>
                  <a:pt x="7801" y="176"/>
                </a:lnTo>
                <a:lnTo>
                  <a:pt x="7907" y="141"/>
                </a:lnTo>
                <a:lnTo>
                  <a:pt x="8013" y="141"/>
                </a:lnTo>
                <a:lnTo>
                  <a:pt x="8119" y="106"/>
                </a:lnTo>
                <a:lnTo>
                  <a:pt x="8119" y="1628"/>
                </a:lnTo>
                <a:lnTo>
                  <a:pt x="7766" y="1345"/>
                </a:lnTo>
                <a:lnTo>
                  <a:pt x="7660" y="1345"/>
                </a:lnTo>
                <a:lnTo>
                  <a:pt x="7554" y="1345"/>
                </a:lnTo>
                <a:lnTo>
                  <a:pt x="7448" y="1415"/>
                </a:lnTo>
                <a:lnTo>
                  <a:pt x="7342" y="1309"/>
                </a:lnTo>
                <a:lnTo>
                  <a:pt x="7236" y="1274"/>
                </a:lnTo>
                <a:lnTo>
                  <a:pt x="7130" y="1168"/>
                </a:lnTo>
                <a:lnTo>
                  <a:pt x="7025" y="1203"/>
                </a:lnTo>
                <a:lnTo>
                  <a:pt x="6989" y="1309"/>
                </a:lnTo>
                <a:lnTo>
                  <a:pt x="6848" y="1345"/>
                </a:lnTo>
                <a:lnTo>
                  <a:pt x="6742" y="1415"/>
                </a:lnTo>
                <a:lnTo>
                  <a:pt x="6636" y="1415"/>
                </a:lnTo>
                <a:lnTo>
                  <a:pt x="6530" y="1380"/>
                </a:lnTo>
                <a:lnTo>
                  <a:pt x="6425" y="1345"/>
                </a:lnTo>
                <a:lnTo>
                  <a:pt x="6319" y="1274"/>
                </a:lnTo>
                <a:lnTo>
                  <a:pt x="6213" y="1274"/>
                </a:lnTo>
                <a:lnTo>
                  <a:pt x="6107" y="1274"/>
                </a:lnTo>
                <a:lnTo>
                  <a:pt x="6001" y="1345"/>
                </a:lnTo>
                <a:lnTo>
                  <a:pt x="5895" y="1415"/>
                </a:lnTo>
                <a:lnTo>
                  <a:pt x="5789" y="1415"/>
                </a:lnTo>
                <a:lnTo>
                  <a:pt x="5683" y="1415"/>
                </a:lnTo>
                <a:lnTo>
                  <a:pt x="5577" y="1345"/>
                </a:lnTo>
                <a:lnTo>
                  <a:pt x="5436" y="1380"/>
                </a:lnTo>
                <a:lnTo>
                  <a:pt x="5330" y="1415"/>
                </a:lnTo>
                <a:lnTo>
                  <a:pt x="5224" y="1345"/>
                </a:lnTo>
                <a:lnTo>
                  <a:pt x="5083" y="1309"/>
                </a:lnTo>
                <a:lnTo>
                  <a:pt x="4977" y="1274"/>
                </a:lnTo>
                <a:lnTo>
                  <a:pt x="4871" y="1274"/>
                </a:lnTo>
                <a:lnTo>
                  <a:pt x="4766" y="1274"/>
                </a:lnTo>
                <a:lnTo>
                  <a:pt x="4660" y="1345"/>
                </a:lnTo>
                <a:lnTo>
                  <a:pt x="4554" y="1415"/>
                </a:lnTo>
                <a:lnTo>
                  <a:pt x="4448" y="1415"/>
                </a:lnTo>
                <a:lnTo>
                  <a:pt x="4342" y="1415"/>
                </a:lnTo>
                <a:lnTo>
                  <a:pt x="4236" y="1309"/>
                </a:lnTo>
                <a:lnTo>
                  <a:pt x="4130" y="1274"/>
                </a:lnTo>
                <a:lnTo>
                  <a:pt x="4023" y="1274"/>
                </a:lnTo>
                <a:lnTo>
                  <a:pt x="3917" y="1274"/>
                </a:lnTo>
                <a:lnTo>
                  <a:pt x="3812" y="1274"/>
                </a:lnTo>
                <a:lnTo>
                  <a:pt x="3706" y="1309"/>
                </a:lnTo>
                <a:lnTo>
                  <a:pt x="3600" y="1309"/>
                </a:lnTo>
                <a:lnTo>
                  <a:pt x="3494" y="1345"/>
                </a:lnTo>
                <a:lnTo>
                  <a:pt x="3388" y="1345"/>
                </a:lnTo>
                <a:lnTo>
                  <a:pt x="3282" y="1345"/>
                </a:lnTo>
                <a:lnTo>
                  <a:pt x="3176" y="1345"/>
                </a:lnTo>
                <a:lnTo>
                  <a:pt x="3035" y="1415"/>
                </a:lnTo>
                <a:lnTo>
                  <a:pt x="2929" y="1451"/>
                </a:lnTo>
                <a:lnTo>
                  <a:pt x="2788" y="1451"/>
                </a:lnTo>
                <a:lnTo>
                  <a:pt x="2682" y="1451"/>
                </a:lnTo>
                <a:lnTo>
                  <a:pt x="2576" y="1451"/>
                </a:lnTo>
                <a:lnTo>
                  <a:pt x="2470" y="1415"/>
                </a:lnTo>
                <a:lnTo>
                  <a:pt x="2329" y="1415"/>
                </a:lnTo>
                <a:lnTo>
                  <a:pt x="2223" y="1380"/>
                </a:lnTo>
                <a:lnTo>
                  <a:pt x="2117" y="1415"/>
                </a:lnTo>
                <a:lnTo>
                  <a:pt x="2011" y="1451"/>
                </a:lnTo>
                <a:lnTo>
                  <a:pt x="1906" y="1486"/>
                </a:lnTo>
                <a:lnTo>
                  <a:pt x="1800" y="1557"/>
                </a:lnTo>
                <a:lnTo>
                  <a:pt x="1694" y="1557"/>
                </a:lnTo>
                <a:lnTo>
                  <a:pt x="1588" y="1557"/>
                </a:lnTo>
                <a:lnTo>
                  <a:pt x="1482" y="1557"/>
                </a:lnTo>
                <a:lnTo>
                  <a:pt x="1447" y="1451"/>
                </a:lnTo>
                <a:lnTo>
                  <a:pt x="1341" y="1415"/>
                </a:lnTo>
                <a:lnTo>
                  <a:pt x="1235" y="1415"/>
                </a:lnTo>
                <a:lnTo>
                  <a:pt x="1129" y="1345"/>
                </a:lnTo>
                <a:lnTo>
                  <a:pt x="1023" y="1345"/>
                </a:lnTo>
                <a:lnTo>
                  <a:pt x="917" y="1345"/>
                </a:lnTo>
                <a:lnTo>
                  <a:pt x="811" y="1415"/>
                </a:lnTo>
                <a:lnTo>
                  <a:pt x="705" y="1415"/>
                </a:lnTo>
                <a:lnTo>
                  <a:pt x="600" y="1415"/>
                </a:lnTo>
                <a:lnTo>
                  <a:pt x="494" y="1415"/>
                </a:lnTo>
                <a:lnTo>
                  <a:pt x="388" y="1415"/>
                </a:lnTo>
                <a:lnTo>
                  <a:pt x="282" y="1451"/>
                </a:lnTo>
                <a:lnTo>
                  <a:pt x="176" y="1486"/>
                </a:lnTo>
                <a:lnTo>
                  <a:pt x="70" y="1486"/>
                </a:lnTo>
                <a:lnTo>
                  <a:pt x="0" y="141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081d58"/>
              </a:gs>
            </a:gsLst>
            <a:lin ang="0"/>
          </a:gra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882880" y="4051440"/>
            <a:ext cx="88920" cy="58428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816520" y="4025880"/>
            <a:ext cx="76320" cy="6224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500040" y="2503440"/>
            <a:ext cx="1120680" cy="9637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lative 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Record</a:t>
            </a:r>
            <a:br>
              <a:rPr sz="1800"/>
            </a:br>
            <a:r>
              <a:rPr b="0" lang="en-US" sz="1800" spc="-1" strike="noStrike">
                <a:solidFill>
                  <a:srgbClr val="cf0e30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1083240" y="1184400"/>
            <a:ext cx="1568160" cy="1265040"/>
          </a:xfrm>
          <a:custGeom>
            <a:avLst/>
            <a:gdLst/>
            <a:ahLst/>
            <a:rect l="0" t="0" r="r" b="b"/>
            <a:pathLst>
              <a:path fill="none" w="4356" h="3514">
                <a:moveTo>
                  <a:pt x="4356" y="0"/>
                </a:moveTo>
                <a:lnTo>
                  <a:pt x="4356" y="0"/>
                </a:lnTo>
                <a:lnTo>
                  <a:pt x="4355" y="0"/>
                </a:lnTo>
                <a:cubicBezTo>
                  <a:pt x="3590" y="0"/>
                  <a:pt x="2839" y="167"/>
                  <a:pt x="2177" y="484"/>
                </a:cubicBezTo>
                <a:cubicBezTo>
                  <a:pt x="1514" y="802"/>
                  <a:pt x="964" y="1258"/>
                  <a:pt x="582" y="1808"/>
                </a:cubicBezTo>
                <a:cubicBezTo>
                  <a:pt x="220" y="2328"/>
                  <a:pt x="20" y="2914"/>
                  <a:pt x="0" y="351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1057320" y="3556080"/>
            <a:ext cx="1492560" cy="1746720"/>
          </a:xfrm>
          <a:custGeom>
            <a:avLst/>
            <a:gdLst/>
            <a:ahLst/>
            <a:rect l="0" t="0" r="r" b="b"/>
            <a:pathLst>
              <a:path fill="none" w="4146" h="4852">
                <a:moveTo>
                  <a:pt x="0" y="0"/>
                </a:moveTo>
                <a:lnTo>
                  <a:pt x="0" y="0"/>
                </a:lnTo>
                <a:cubicBezTo>
                  <a:pt x="0" y="852"/>
                  <a:pt x="192" y="1688"/>
                  <a:pt x="555" y="2426"/>
                </a:cubicBezTo>
                <a:cubicBezTo>
                  <a:pt x="919" y="3164"/>
                  <a:pt x="1443" y="3776"/>
                  <a:pt x="2073" y="4202"/>
                </a:cubicBezTo>
                <a:cubicBezTo>
                  <a:pt x="2703" y="4628"/>
                  <a:pt x="3418" y="4852"/>
                  <a:pt x="4146" y="4852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6959520" y="1752480"/>
            <a:ext cx="1625760" cy="59688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Rec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829480" y="2427120"/>
            <a:ext cx="1949760" cy="1452960"/>
          </a:xfrm>
          <a:custGeom>
            <a:avLst/>
            <a:gdLst/>
            <a:ahLst/>
            <a:rect l="0" t="0" r="r" b="b"/>
            <a:pathLst>
              <a:path fill="none" w="5416" h="4036">
                <a:moveTo>
                  <a:pt x="0" y="4036"/>
                </a:moveTo>
                <a:lnTo>
                  <a:pt x="0" y="4036"/>
                </a:lnTo>
                <a:lnTo>
                  <a:pt x="0" y="4036"/>
                </a:lnTo>
                <a:cubicBezTo>
                  <a:pt x="951" y="4036"/>
                  <a:pt x="1885" y="3849"/>
                  <a:pt x="2708" y="3495"/>
                </a:cubicBezTo>
                <a:cubicBezTo>
                  <a:pt x="3531" y="3140"/>
                  <a:pt x="4215" y="2630"/>
                  <a:pt x="4690" y="2015"/>
                </a:cubicBezTo>
                <a:cubicBezTo>
                  <a:pt x="5165" y="1403"/>
                  <a:pt x="5415" y="708"/>
                  <a:pt x="541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1295280" y="457200"/>
            <a:ext cx="5911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ing with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1" name="" descr=""/>
          <p:cNvPicPr/>
          <p:nvPr/>
        </p:nvPicPr>
        <p:blipFill>
          <a:blip r:embed="rId1"/>
          <a:stretch/>
        </p:blipFill>
        <p:spPr>
          <a:xfrm>
            <a:off x="685800" y="-831960"/>
            <a:ext cx="7702560" cy="76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>
            <a:off x="685800" y="1523880"/>
            <a:ext cx="76374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in a KSDS are stored in key sequence and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d by an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key field of records determine the order in which records are 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KSDS, records can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d bo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their key field val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s of KS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ial processing is useful for retrieving records in the sorted f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or direct processing of records is useful in on-lin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1371600" y="457200"/>
            <a:ext cx="60609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-Sequenced Data Set (Index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" descr=""/>
          <p:cNvPicPr/>
          <p:nvPr/>
        </p:nvPicPr>
        <p:blipFill>
          <a:blip r:embed="rId1"/>
          <a:stretch/>
        </p:blipFill>
        <p:spPr>
          <a:xfrm>
            <a:off x="152280" y="1492200"/>
            <a:ext cx="8607600" cy="5353200"/>
          </a:xfrm>
          <a:prstGeom prst="rect">
            <a:avLst/>
          </a:prstGeom>
          <a:ln w="0">
            <a:noFill/>
          </a:ln>
        </p:spPr>
      </p:pic>
      <p:pic>
        <p:nvPicPr>
          <p:cNvPr id="2155" name="" descr=""/>
          <p:cNvPicPr/>
          <p:nvPr/>
        </p:nvPicPr>
        <p:blipFill>
          <a:blip r:embed="rId2"/>
          <a:stretch/>
        </p:blipFill>
        <p:spPr>
          <a:xfrm>
            <a:off x="158760" y="225360"/>
            <a:ext cx="84898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031240" cy="5392800"/>
          </a:xfrm>
          <a:prstGeom prst="rect">
            <a:avLst/>
          </a:prstGeom>
          <a:ln w="0">
            <a:noFill/>
          </a:ln>
        </p:spPr>
      </p:pic>
      <p:pic>
        <p:nvPicPr>
          <p:cNvPr id="215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47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1089000" y="-58680"/>
            <a:ext cx="65880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cf0e3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O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Ni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5298840" y="137484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2058840" y="1817640"/>
            <a:ext cx="1427400" cy="1109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138240" y="-58680"/>
            <a:ext cx="81248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ed Files - Reading Record 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3490920" y="107460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H   R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038480" y="11016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597560" y="1114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3443400" y="2962440"/>
            <a:ext cx="169704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L   O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0132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457200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1206360" y="2962440"/>
            <a:ext cx="167796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C   F 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76544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23241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5746680" y="2962440"/>
            <a:ext cx="1716120" cy="70632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37c03"/>
                </a:solidFill>
                <a:latin typeface="Arial"/>
                <a:ea typeface="Arial"/>
              </a:rPr>
              <a:t>T   W 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32448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883560" y="299412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376200" y="5433840"/>
            <a:ext cx="8253360" cy="712800"/>
          </a:xfrm>
          <a:prstGeom prst="rect">
            <a:avLst/>
          </a:prstGeom>
          <a:solidFill>
            <a:srgbClr val="00cc99"/>
          </a:solidFill>
          <a:ln w="255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Nf </a:t>
            </a:r>
            <a:r>
              <a:rPr b="1" lang="en-US" sz="1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t Oi Ot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6502320" y="54831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21556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0482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58776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7966080" y="547380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8768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410544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3243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4572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479412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2835360" y="3778200"/>
            <a:ext cx="95256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343400" y="3740040"/>
            <a:ext cx="0" cy="163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4886280" y="3787920"/>
            <a:ext cx="1003320" cy="159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149880" y="3762360"/>
            <a:ext cx="1057320" cy="156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1454040" y="3749760"/>
            <a:ext cx="1079640" cy="1622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686640" y="3759120"/>
            <a:ext cx="1717560" cy="161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43080" y="5359320"/>
            <a:ext cx="179640" cy="852840"/>
          </a:xfrm>
          <a:custGeom>
            <a:avLst/>
            <a:gdLst/>
            <a:ahLst/>
            <a:rect l="0" t="0" r="r" b="b"/>
            <a:pathLst>
              <a:path w="499" h="2369">
                <a:moveTo>
                  <a:pt x="250" y="70"/>
                </a:moveTo>
                <a:lnTo>
                  <a:pt x="285" y="176"/>
                </a:lnTo>
                <a:lnTo>
                  <a:pt x="356" y="282"/>
                </a:lnTo>
                <a:lnTo>
                  <a:pt x="392" y="388"/>
                </a:lnTo>
                <a:lnTo>
                  <a:pt x="463" y="494"/>
                </a:lnTo>
                <a:lnTo>
                  <a:pt x="356" y="565"/>
                </a:lnTo>
                <a:lnTo>
                  <a:pt x="250" y="600"/>
                </a:lnTo>
                <a:lnTo>
                  <a:pt x="250" y="706"/>
                </a:lnTo>
                <a:lnTo>
                  <a:pt x="356" y="777"/>
                </a:lnTo>
                <a:lnTo>
                  <a:pt x="428" y="883"/>
                </a:lnTo>
                <a:lnTo>
                  <a:pt x="499" y="989"/>
                </a:lnTo>
                <a:lnTo>
                  <a:pt x="392" y="1060"/>
                </a:lnTo>
                <a:lnTo>
                  <a:pt x="321" y="1166"/>
                </a:lnTo>
                <a:lnTo>
                  <a:pt x="213" y="1238"/>
                </a:lnTo>
                <a:lnTo>
                  <a:pt x="250" y="1344"/>
                </a:lnTo>
                <a:lnTo>
                  <a:pt x="356" y="1379"/>
                </a:lnTo>
                <a:lnTo>
                  <a:pt x="463" y="1450"/>
                </a:lnTo>
                <a:lnTo>
                  <a:pt x="428" y="1556"/>
                </a:lnTo>
                <a:lnTo>
                  <a:pt x="321" y="1626"/>
                </a:lnTo>
                <a:lnTo>
                  <a:pt x="213" y="1697"/>
                </a:lnTo>
                <a:lnTo>
                  <a:pt x="285" y="1803"/>
                </a:lnTo>
                <a:lnTo>
                  <a:pt x="356" y="1909"/>
                </a:lnTo>
                <a:lnTo>
                  <a:pt x="463" y="1980"/>
                </a:lnTo>
                <a:lnTo>
                  <a:pt x="392" y="2086"/>
                </a:lnTo>
                <a:lnTo>
                  <a:pt x="285" y="2192"/>
                </a:lnTo>
                <a:lnTo>
                  <a:pt x="0" y="2369"/>
                </a:lnTo>
                <a:lnTo>
                  <a:pt x="0" y="0"/>
                </a:lnTo>
                <a:lnTo>
                  <a:pt x="250" y="7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41200" y="5232240"/>
            <a:ext cx="255960" cy="1043280"/>
          </a:xfrm>
          <a:custGeom>
            <a:avLst/>
            <a:gdLst/>
            <a:ahLst/>
            <a:rect l="0" t="0" r="r" b="b"/>
            <a:pathLst>
              <a:path w="711" h="2898">
                <a:moveTo>
                  <a:pt x="711" y="459"/>
                </a:moveTo>
                <a:lnTo>
                  <a:pt x="640" y="565"/>
                </a:lnTo>
                <a:lnTo>
                  <a:pt x="534" y="635"/>
                </a:lnTo>
                <a:lnTo>
                  <a:pt x="426" y="706"/>
                </a:lnTo>
                <a:lnTo>
                  <a:pt x="355" y="812"/>
                </a:lnTo>
                <a:lnTo>
                  <a:pt x="320" y="918"/>
                </a:lnTo>
                <a:lnTo>
                  <a:pt x="426" y="2191"/>
                </a:lnTo>
                <a:lnTo>
                  <a:pt x="711" y="2792"/>
                </a:lnTo>
                <a:lnTo>
                  <a:pt x="70" y="2898"/>
                </a:lnTo>
                <a:lnTo>
                  <a:pt x="0" y="0"/>
                </a:lnTo>
                <a:lnTo>
                  <a:pt x="711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8458200" y="5384880"/>
            <a:ext cx="243360" cy="827280"/>
          </a:xfrm>
          <a:custGeom>
            <a:avLst/>
            <a:gdLst/>
            <a:ahLst/>
            <a:rect l="0" t="0" r="r" b="b"/>
            <a:pathLst>
              <a:path w="676" h="2298">
                <a:moveTo>
                  <a:pt x="427" y="0"/>
                </a:moveTo>
                <a:lnTo>
                  <a:pt x="106" y="494"/>
                </a:lnTo>
                <a:lnTo>
                  <a:pt x="214" y="600"/>
                </a:lnTo>
                <a:lnTo>
                  <a:pt x="356" y="636"/>
                </a:lnTo>
                <a:lnTo>
                  <a:pt x="249" y="742"/>
                </a:lnTo>
                <a:lnTo>
                  <a:pt x="142" y="777"/>
                </a:lnTo>
                <a:lnTo>
                  <a:pt x="71" y="883"/>
                </a:lnTo>
                <a:lnTo>
                  <a:pt x="178" y="989"/>
                </a:lnTo>
                <a:lnTo>
                  <a:pt x="285" y="1060"/>
                </a:lnTo>
                <a:lnTo>
                  <a:pt x="356" y="1167"/>
                </a:lnTo>
                <a:lnTo>
                  <a:pt x="391" y="1273"/>
                </a:lnTo>
                <a:lnTo>
                  <a:pt x="498" y="1308"/>
                </a:lnTo>
                <a:lnTo>
                  <a:pt x="391" y="1273"/>
                </a:lnTo>
                <a:lnTo>
                  <a:pt x="320" y="1379"/>
                </a:lnTo>
                <a:lnTo>
                  <a:pt x="214" y="1450"/>
                </a:lnTo>
                <a:lnTo>
                  <a:pt x="106" y="1556"/>
                </a:lnTo>
                <a:lnTo>
                  <a:pt x="0" y="1591"/>
                </a:lnTo>
                <a:lnTo>
                  <a:pt x="71" y="1697"/>
                </a:lnTo>
                <a:lnTo>
                  <a:pt x="178" y="1732"/>
                </a:lnTo>
                <a:lnTo>
                  <a:pt x="285" y="1803"/>
                </a:lnTo>
                <a:lnTo>
                  <a:pt x="285" y="1909"/>
                </a:lnTo>
                <a:lnTo>
                  <a:pt x="178" y="1980"/>
                </a:lnTo>
                <a:lnTo>
                  <a:pt x="71" y="2051"/>
                </a:lnTo>
                <a:lnTo>
                  <a:pt x="0" y="2298"/>
                </a:lnTo>
                <a:lnTo>
                  <a:pt x="641" y="2227"/>
                </a:lnTo>
                <a:lnTo>
                  <a:pt x="676" y="35"/>
                </a:lnTo>
                <a:lnTo>
                  <a:pt x="42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8344080" y="5321160"/>
            <a:ext cx="433800" cy="941760"/>
          </a:xfrm>
          <a:custGeom>
            <a:avLst/>
            <a:gdLst/>
            <a:ahLst/>
            <a:rect l="0" t="0" r="r" b="b"/>
            <a:pathLst>
              <a:path w="1205" h="2616">
                <a:moveTo>
                  <a:pt x="496" y="70"/>
                </a:moveTo>
                <a:lnTo>
                  <a:pt x="815" y="565"/>
                </a:lnTo>
                <a:lnTo>
                  <a:pt x="744" y="1732"/>
                </a:lnTo>
                <a:lnTo>
                  <a:pt x="744" y="2228"/>
                </a:lnTo>
                <a:lnTo>
                  <a:pt x="0" y="2404"/>
                </a:lnTo>
                <a:lnTo>
                  <a:pt x="212" y="2616"/>
                </a:lnTo>
                <a:lnTo>
                  <a:pt x="1170" y="2581"/>
                </a:lnTo>
                <a:lnTo>
                  <a:pt x="1205" y="0"/>
                </a:lnTo>
                <a:lnTo>
                  <a:pt x="496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24033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263196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28512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09888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321000" y="54673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9936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12222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441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6891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9112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311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5404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75928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0069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6229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7849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701352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72327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748044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770256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81630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8391600" y="547992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746280" y="5470560"/>
            <a:ext cx="0" cy="650880"/>
          </a:xfrm>
          <a:prstGeom prst="line">
            <a:avLst/>
          </a:prstGeom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3800" y="5492880"/>
            <a:ext cx="0" cy="650880"/>
          </a:xfrm>
          <a:prstGeom prst="line">
            <a:avLst/>
          </a:prstGeom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654120" y="3724200"/>
            <a:ext cx="1361880" cy="1660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305240" y="1844640"/>
            <a:ext cx="0" cy="1044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 flipH="1">
            <a:off x="2060640" y="1819440"/>
            <a:ext cx="1425600" cy="110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5197320" y="1832040"/>
            <a:ext cx="1463760" cy="1095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7365960" y="19177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336640" y="1382760"/>
            <a:ext cx="2544120" cy="654480"/>
          </a:xfrm>
          <a:custGeom>
            <a:avLst/>
            <a:gdLst/>
            <a:ahLst/>
            <a:rect l="0" t="0" r="r" b="b"/>
            <a:pathLst>
              <a:path fill="none" w="7067" h="1818">
                <a:moveTo>
                  <a:pt x="7067" y="1818"/>
                </a:moveTo>
                <a:lnTo>
                  <a:pt x="7067" y="1818"/>
                </a:lnTo>
                <a:lnTo>
                  <a:pt x="7067" y="1818"/>
                </a:lnTo>
                <a:cubicBezTo>
                  <a:pt x="7067" y="1499"/>
                  <a:pt x="6740" y="1185"/>
                  <a:pt x="6119" y="909"/>
                </a:cubicBezTo>
                <a:cubicBezTo>
                  <a:pt x="5498" y="633"/>
                  <a:pt x="4605" y="403"/>
                  <a:pt x="3529" y="244"/>
                </a:cubicBezTo>
                <a:cubicBezTo>
                  <a:pt x="2456" y="84"/>
                  <a:pt x="123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7531200" y="2236320"/>
            <a:ext cx="895680" cy="1034280"/>
          </a:xfrm>
          <a:custGeom>
            <a:avLst/>
            <a:gdLst/>
            <a:ahLst/>
            <a:rect l="0" t="0" r="r" b="b"/>
            <a:pathLst>
              <a:path fill="none" w="2488" h="2873">
                <a:moveTo>
                  <a:pt x="0" y="2873"/>
                </a:moveTo>
                <a:lnTo>
                  <a:pt x="0" y="2873"/>
                </a:lnTo>
                <a:lnTo>
                  <a:pt x="0" y="2873"/>
                </a:lnTo>
                <a:cubicBezTo>
                  <a:pt x="437" y="2873"/>
                  <a:pt x="866" y="2740"/>
                  <a:pt x="1244" y="2488"/>
                </a:cubicBezTo>
                <a:cubicBezTo>
                  <a:pt x="1622" y="2235"/>
                  <a:pt x="1936" y="1872"/>
                  <a:pt x="2155" y="1435"/>
                </a:cubicBezTo>
                <a:cubicBezTo>
                  <a:pt x="2373" y="999"/>
                  <a:pt x="2488" y="504"/>
                  <a:pt x="24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3657600" y="614664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3594240" y="5448240"/>
            <a:ext cx="1447920" cy="685800"/>
          </a:xfrm>
          <a:prstGeom prst="rect">
            <a:avLst/>
          </a:prstGeom>
          <a:noFill/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1434960" y="1244520"/>
            <a:ext cx="134604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2624040" y="1434960"/>
            <a:ext cx="6397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2031840" y="1735200"/>
            <a:ext cx="0" cy="880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8" name="" descr=""/>
          <p:cNvPicPr/>
          <p:nvPr/>
        </p:nvPicPr>
        <p:blipFill>
          <a:blip r:embed="rId1"/>
          <a:stretch/>
        </p:blipFill>
        <p:spPr>
          <a:xfrm>
            <a:off x="304920" y="122400"/>
            <a:ext cx="810576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9" name="" descr=""/>
          <p:cNvPicPr/>
          <p:nvPr/>
        </p:nvPicPr>
        <p:blipFill>
          <a:blip r:embed="rId1"/>
          <a:stretch/>
        </p:blipFill>
        <p:spPr>
          <a:xfrm>
            <a:off x="236520" y="119160"/>
            <a:ext cx="8818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1100160" y="7920"/>
            <a:ext cx="6512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Set Records and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3320" y="725400"/>
            <a:ext cx="832788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7520" indent="-317520">
              <a:lnSpc>
                <a:spcPct val="88000"/>
              </a:lnSpc>
              <a:spcBef>
                <a:spcPts val="1681"/>
              </a:spcBef>
              <a:spcAft>
                <a:spcPts val="720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cribe an item of information we are recording about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380880">
              <a:lnSpc>
                <a:spcPct val="88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StudentName, DateOfBirth, CourseCod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8000"/>
              </a:lnSpc>
              <a:spcBef>
                <a:spcPts val="1681"/>
              </a:spcBef>
              <a:spcAft>
                <a:spcPts val="720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scribe the collection of fields which record information about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2560" indent="-380880">
              <a:lnSpc>
                <a:spcPct val="88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a StudentRecord is a collection of fields recording information about a student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8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distinguish between the record occurrence (i.e. the values of a record) and the record type (i.e. the structure of the record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record in a dataset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1295280" y="457200"/>
            <a:ext cx="6013440" cy="18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viewing Data Sets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en to use what -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 application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1" name="" descr=""/>
          <p:cNvPicPr/>
          <p:nvPr/>
        </p:nvPicPr>
        <p:blipFill>
          <a:blip r:embed="rId1"/>
          <a:stretch/>
        </p:blipFill>
        <p:spPr>
          <a:xfrm>
            <a:off x="528480" y="228600"/>
            <a:ext cx="7883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609480" y="-500040"/>
            <a:ext cx="795348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4139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1371600" y="84240"/>
            <a:ext cx="65120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ta Set Records and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62040" y="1079640"/>
            <a:ext cx="4343400" cy="1985760"/>
            <a:chOff x="662040" y="1079640"/>
            <a:chExt cx="4343400" cy="1985760"/>
          </a:xfrm>
        </p:grpSpPr>
        <p:sp>
          <p:nvSpPr>
            <p:cNvPr id="779" name=""/>
            <p:cNvSpPr txBox="1"/>
            <p:nvPr/>
          </p:nvSpPr>
          <p:spPr>
            <a:xfrm>
              <a:off x="662040" y="1496880"/>
              <a:ext cx="4343400" cy="1568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spcAft>
                  <a:spcPts val="720"/>
                </a:spcAf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"/>
                  <a:ea typeface="Courier New"/>
                </a:rPr>
                <a:t>StudId StudName DateOfBi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23456 COUGHLAN   100919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724567 RYAN       311219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534118 COFFEY     230619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423458 O'BRIEN    031119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312876 SMITH      121219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1631880" y="1079640"/>
              <a:ext cx="2397240" cy="42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STUDENTS.D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0200" y="1814400"/>
              <a:ext cx="4271760" cy="1800"/>
            </a:xfrm>
            <a:prstGeom prst="line">
              <a:avLst/>
            </a:prstGeom>
            <a:ln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6480" y="3784680"/>
            <a:ext cx="4484880" cy="2516400"/>
            <a:chOff x="636480" y="3784680"/>
            <a:chExt cx="4484880" cy="2516400"/>
          </a:xfrm>
        </p:grpSpPr>
        <p:sp>
          <p:nvSpPr>
            <p:cNvPr id="783" name=""/>
            <p:cNvSpPr txBox="1"/>
            <p:nvPr/>
          </p:nvSpPr>
          <p:spPr>
            <a:xfrm>
              <a:off x="744480" y="3860640"/>
              <a:ext cx="4168800" cy="227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txBody>
            <a:bodyPr lIns="0" rIns="0" tIns="0" bIns="0" anchor="t">
              <a:noAutofit/>
            </a:bodyPr>
            <a:p>
              <a:pPr marL="190440" indent="-190440">
                <a:lnSpc>
                  <a:spcPct val="85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TA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LE S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D StudentFi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1 StudentDetail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StudId       PIC 9(7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StudName     PIC X(8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  DateOfBirth  PIC X(8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6480" y="3784680"/>
              <a:ext cx="4459680" cy="497160"/>
            </a:xfrm>
            <a:custGeom>
              <a:avLst/>
              <a:gdLst/>
              <a:ahLst/>
              <a:rect l="0" t="0" r="r" b="b"/>
              <a:pathLst>
                <a:path w="12388" h="1381">
                  <a:moveTo>
                    <a:pt x="0" y="1027"/>
                  </a:moveTo>
                  <a:lnTo>
                    <a:pt x="105" y="956"/>
                  </a:lnTo>
                  <a:lnTo>
                    <a:pt x="211" y="921"/>
                  </a:lnTo>
                  <a:lnTo>
                    <a:pt x="317" y="850"/>
                  </a:lnTo>
                  <a:lnTo>
                    <a:pt x="458" y="814"/>
                  </a:lnTo>
                  <a:lnTo>
                    <a:pt x="564" y="779"/>
                  </a:lnTo>
                  <a:lnTo>
                    <a:pt x="670" y="672"/>
                  </a:lnTo>
                  <a:lnTo>
                    <a:pt x="776" y="601"/>
                  </a:lnTo>
                  <a:lnTo>
                    <a:pt x="882" y="672"/>
                  </a:lnTo>
                  <a:lnTo>
                    <a:pt x="952" y="779"/>
                  </a:lnTo>
                  <a:lnTo>
                    <a:pt x="1058" y="779"/>
                  </a:lnTo>
                  <a:lnTo>
                    <a:pt x="1199" y="708"/>
                  </a:lnTo>
                  <a:lnTo>
                    <a:pt x="1305" y="744"/>
                  </a:lnTo>
                  <a:lnTo>
                    <a:pt x="1411" y="779"/>
                  </a:lnTo>
                  <a:lnTo>
                    <a:pt x="1517" y="779"/>
                  </a:lnTo>
                  <a:lnTo>
                    <a:pt x="1658" y="814"/>
                  </a:lnTo>
                  <a:lnTo>
                    <a:pt x="1799" y="779"/>
                  </a:lnTo>
                  <a:lnTo>
                    <a:pt x="1976" y="708"/>
                  </a:lnTo>
                  <a:lnTo>
                    <a:pt x="2082" y="637"/>
                  </a:lnTo>
                  <a:lnTo>
                    <a:pt x="2117" y="744"/>
                  </a:lnTo>
                  <a:lnTo>
                    <a:pt x="2223" y="708"/>
                  </a:lnTo>
                  <a:lnTo>
                    <a:pt x="2329" y="672"/>
                  </a:lnTo>
                  <a:lnTo>
                    <a:pt x="2435" y="672"/>
                  </a:lnTo>
                  <a:lnTo>
                    <a:pt x="2540" y="708"/>
                  </a:lnTo>
                  <a:lnTo>
                    <a:pt x="2646" y="708"/>
                  </a:lnTo>
                  <a:lnTo>
                    <a:pt x="2752" y="672"/>
                  </a:lnTo>
                  <a:lnTo>
                    <a:pt x="2858" y="672"/>
                  </a:lnTo>
                  <a:lnTo>
                    <a:pt x="2964" y="637"/>
                  </a:lnTo>
                  <a:lnTo>
                    <a:pt x="3106" y="566"/>
                  </a:lnTo>
                  <a:lnTo>
                    <a:pt x="3212" y="495"/>
                  </a:lnTo>
                  <a:lnTo>
                    <a:pt x="3353" y="460"/>
                  </a:lnTo>
                  <a:lnTo>
                    <a:pt x="3494" y="389"/>
                  </a:lnTo>
                  <a:lnTo>
                    <a:pt x="3635" y="495"/>
                  </a:lnTo>
                  <a:lnTo>
                    <a:pt x="3706" y="637"/>
                  </a:lnTo>
                  <a:lnTo>
                    <a:pt x="3777" y="744"/>
                  </a:lnTo>
                  <a:lnTo>
                    <a:pt x="3953" y="566"/>
                  </a:lnTo>
                  <a:lnTo>
                    <a:pt x="4059" y="495"/>
                  </a:lnTo>
                  <a:lnTo>
                    <a:pt x="4094" y="637"/>
                  </a:lnTo>
                  <a:lnTo>
                    <a:pt x="4271" y="601"/>
                  </a:lnTo>
                  <a:lnTo>
                    <a:pt x="4377" y="566"/>
                  </a:lnTo>
                  <a:lnTo>
                    <a:pt x="4553" y="566"/>
                  </a:lnTo>
                  <a:lnTo>
                    <a:pt x="4694" y="601"/>
                  </a:lnTo>
                  <a:lnTo>
                    <a:pt x="4835" y="708"/>
                  </a:lnTo>
                  <a:lnTo>
                    <a:pt x="4941" y="672"/>
                  </a:lnTo>
                  <a:lnTo>
                    <a:pt x="5082" y="672"/>
                  </a:lnTo>
                  <a:lnTo>
                    <a:pt x="5259" y="637"/>
                  </a:lnTo>
                  <a:lnTo>
                    <a:pt x="5365" y="601"/>
                  </a:lnTo>
                  <a:lnTo>
                    <a:pt x="5471" y="708"/>
                  </a:lnTo>
                  <a:lnTo>
                    <a:pt x="5612" y="566"/>
                  </a:lnTo>
                  <a:lnTo>
                    <a:pt x="5718" y="672"/>
                  </a:lnTo>
                  <a:lnTo>
                    <a:pt x="5823" y="672"/>
                  </a:lnTo>
                  <a:lnTo>
                    <a:pt x="5894" y="779"/>
                  </a:lnTo>
                  <a:lnTo>
                    <a:pt x="6000" y="779"/>
                  </a:lnTo>
                  <a:lnTo>
                    <a:pt x="6106" y="779"/>
                  </a:lnTo>
                  <a:lnTo>
                    <a:pt x="6212" y="744"/>
                  </a:lnTo>
                  <a:lnTo>
                    <a:pt x="6317" y="708"/>
                  </a:lnTo>
                  <a:lnTo>
                    <a:pt x="6423" y="672"/>
                  </a:lnTo>
                  <a:lnTo>
                    <a:pt x="6565" y="637"/>
                  </a:lnTo>
                  <a:lnTo>
                    <a:pt x="6706" y="566"/>
                  </a:lnTo>
                  <a:lnTo>
                    <a:pt x="6812" y="566"/>
                  </a:lnTo>
                  <a:lnTo>
                    <a:pt x="6917" y="672"/>
                  </a:lnTo>
                  <a:lnTo>
                    <a:pt x="6988" y="779"/>
                  </a:lnTo>
                  <a:lnTo>
                    <a:pt x="7094" y="850"/>
                  </a:lnTo>
                  <a:lnTo>
                    <a:pt x="7306" y="956"/>
                  </a:lnTo>
                  <a:lnTo>
                    <a:pt x="7447" y="921"/>
                  </a:lnTo>
                  <a:lnTo>
                    <a:pt x="7553" y="850"/>
                  </a:lnTo>
                  <a:lnTo>
                    <a:pt x="7694" y="779"/>
                  </a:lnTo>
                  <a:lnTo>
                    <a:pt x="7870" y="744"/>
                  </a:lnTo>
                  <a:lnTo>
                    <a:pt x="8082" y="637"/>
                  </a:lnTo>
                  <a:lnTo>
                    <a:pt x="8223" y="601"/>
                  </a:lnTo>
                  <a:lnTo>
                    <a:pt x="8364" y="672"/>
                  </a:lnTo>
                  <a:lnTo>
                    <a:pt x="8435" y="779"/>
                  </a:lnTo>
                  <a:lnTo>
                    <a:pt x="8576" y="672"/>
                  </a:lnTo>
                  <a:lnTo>
                    <a:pt x="8682" y="637"/>
                  </a:lnTo>
                  <a:lnTo>
                    <a:pt x="8858" y="672"/>
                  </a:lnTo>
                  <a:lnTo>
                    <a:pt x="8964" y="637"/>
                  </a:lnTo>
                  <a:lnTo>
                    <a:pt x="9070" y="672"/>
                  </a:lnTo>
                  <a:lnTo>
                    <a:pt x="9211" y="672"/>
                  </a:lnTo>
                  <a:lnTo>
                    <a:pt x="9282" y="779"/>
                  </a:lnTo>
                  <a:lnTo>
                    <a:pt x="9389" y="814"/>
                  </a:lnTo>
                  <a:lnTo>
                    <a:pt x="9530" y="814"/>
                  </a:lnTo>
                  <a:lnTo>
                    <a:pt x="9671" y="814"/>
                  </a:lnTo>
                  <a:lnTo>
                    <a:pt x="9777" y="779"/>
                  </a:lnTo>
                  <a:lnTo>
                    <a:pt x="9883" y="850"/>
                  </a:lnTo>
                  <a:lnTo>
                    <a:pt x="9989" y="921"/>
                  </a:lnTo>
                  <a:lnTo>
                    <a:pt x="10095" y="956"/>
                  </a:lnTo>
                  <a:lnTo>
                    <a:pt x="10271" y="921"/>
                  </a:lnTo>
                  <a:lnTo>
                    <a:pt x="10342" y="814"/>
                  </a:lnTo>
                  <a:lnTo>
                    <a:pt x="10447" y="708"/>
                  </a:lnTo>
                  <a:lnTo>
                    <a:pt x="10553" y="672"/>
                  </a:lnTo>
                  <a:lnTo>
                    <a:pt x="10659" y="637"/>
                  </a:lnTo>
                  <a:lnTo>
                    <a:pt x="10765" y="601"/>
                  </a:lnTo>
                  <a:lnTo>
                    <a:pt x="10836" y="708"/>
                  </a:lnTo>
                  <a:lnTo>
                    <a:pt x="10942" y="779"/>
                  </a:lnTo>
                  <a:lnTo>
                    <a:pt x="11047" y="850"/>
                  </a:lnTo>
                  <a:lnTo>
                    <a:pt x="11259" y="921"/>
                  </a:lnTo>
                  <a:lnTo>
                    <a:pt x="11365" y="956"/>
                  </a:lnTo>
                  <a:lnTo>
                    <a:pt x="11577" y="991"/>
                  </a:lnTo>
                  <a:lnTo>
                    <a:pt x="11683" y="991"/>
                  </a:lnTo>
                  <a:lnTo>
                    <a:pt x="11788" y="1133"/>
                  </a:lnTo>
                  <a:lnTo>
                    <a:pt x="11930" y="1204"/>
                  </a:lnTo>
                  <a:lnTo>
                    <a:pt x="12071" y="1275"/>
                  </a:lnTo>
                  <a:lnTo>
                    <a:pt x="12177" y="1345"/>
                  </a:lnTo>
                  <a:lnTo>
                    <a:pt x="12283" y="1345"/>
                  </a:lnTo>
                  <a:lnTo>
                    <a:pt x="12388" y="1381"/>
                  </a:lnTo>
                  <a:lnTo>
                    <a:pt x="12388" y="70"/>
                  </a:lnTo>
                  <a:lnTo>
                    <a:pt x="0" y="0"/>
                  </a:lnTo>
                  <a:lnTo>
                    <a:pt x="70" y="814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480" y="5867280"/>
              <a:ext cx="4484880" cy="433800"/>
            </a:xfrm>
            <a:custGeom>
              <a:avLst/>
              <a:gdLst/>
              <a:ahLst/>
              <a:rect l="0" t="0" r="r" b="b"/>
              <a:pathLst>
                <a:path w="12458" h="1205">
                  <a:moveTo>
                    <a:pt x="0" y="602"/>
                  </a:moveTo>
                  <a:lnTo>
                    <a:pt x="70" y="496"/>
                  </a:lnTo>
                  <a:lnTo>
                    <a:pt x="211" y="390"/>
                  </a:lnTo>
                  <a:lnTo>
                    <a:pt x="352" y="355"/>
                  </a:lnTo>
                  <a:lnTo>
                    <a:pt x="458" y="319"/>
                  </a:lnTo>
                  <a:lnTo>
                    <a:pt x="564" y="212"/>
                  </a:lnTo>
                  <a:lnTo>
                    <a:pt x="670" y="319"/>
                  </a:lnTo>
                  <a:lnTo>
                    <a:pt x="882" y="390"/>
                  </a:lnTo>
                  <a:lnTo>
                    <a:pt x="988" y="496"/>
                  </a:lnTo>
                  <a:lnTo>
                    <a:pt x="1093" y="461"/>
                  </a:lnTo>
                  <a:lnTo>
                    <a:pt x="1199" y="355"/>
                  </a:lnTo>
                  <a:lnTo>
                    <a:pt x="1341" y="390"/>
                  </a:lnTo>
                  <a:lnTo>
                    <a:pt x="1446" y="461"/>
                  </a:lnTo>
                  <a:lnTo>
                    <a:pt x="1623" y="390"/>
                  </a:lnTo>
                  <a:lnTo>
                    <a:pt x="1729" y="283"/>
                  </a:lnTo>
                  <a:lnTo>
                    <a:pt x="1799" y="177"/>
                  </a:lnTo>
                  <a:lnTo>
                    <a:pt x="1976" y="212"/>
                  </a:lnTo>
                  <a:lnTo>
                    <a:pt x="2187" y="212"/>
                  </a:lnTo>
                  <a:lnTo>
                    <a:pt x="2329" y="355"/>
                  </a:lnTo>
                  <a:lnTo>
                    <a:pt x="2435" y="355"/>
                  </a:lnTo>
                  <a:lnTo>
                    <a:pt x="2470" y="247"/>
                  </a:lnTo>
                  <a:lnTo>
                    <a:pt x="2611" y="319"/>
                  </a:lnTo>
                  <a:lnTo>
                    <a:pt x="2752" y="355"/>
                  </a:lnTo>
                  <a:lnTo>
                    <a:pt x="2858" y="283"/>
                  </a:lnTo>
                  <a:lnTo>
                    <a:pt x="2999" y="355"/>
                  </a:lnTo>
                  <a:lnTo>
                    <a:pt x="3105" y="390"/>
                  </a:lnTo>
                  <a:lnTo>
                    <a:pt x="3281" y="355"/>
                  </a:lnTo>
                  <a:lnTo>
                    <a:pt x="3387" y="247"/>
                  </a:lnTo>
                  <a:lnTo>
                    <a:pt x="3529" y="177"/>
                  </a:lnTo>
                  <a:lnTo>
                    <a:pt x="3670" y="177"/>
                  </a:lnTo>
                  <a:lnTo>
                    <a:pt x="3811" y="212"/>
                  </a:lnTo>
                  <a:lnTo>
                    <a:pt x="3917" y="212"/>
                  </a:lnTo>
                  <a:lnTo>
                    <a:pt x="4058" y="141"/>
                  </a:lnTo>
                  <a:lnTo>
                    <a:pt x="4164" y="106"/>
                  </a:lnTo>
                  <a:lnTo>
                    <a:pt x="4305" y="70"/>
                  </a:lnTo>
                  <a:lnTo>
                    <a:pt x="4446" y="70"/>
                  </a:lnTo>
                  <a:lnTo>
                    <a:pt x="4587" y="177"/>
                  </a:lnTo>
                  <a:lnTo>
                    <a:pt x="4728" y="177"/>
                  </a:lnTo>
                  <a:lnTo>
                    <a:pt x="4834" y="212"/>
                  </a:lnTo>
                  <a:lnTo>
                    <a:pt x="4870" y="319"/>
                  </a:lnTo>
                  <a:lnTo>
                    <a:pt x="5011" y="247"/>
                  </a:lnTo>
                  <a:lnTo>
                    <a:pt x="5152" y="212"/>
                  </a:lnTo>
                  <a:lnTo>
                    <a:pt x="5328" y="141"/>
                  </a:lnTo>
                  <a:lnTo>
                    <a:pt x="5822" y="70"/>
                  </a:lnTo>
                  <a:lnTo>
                    <a:pt x="5964" y="35"/>
                  </a:lnTo>
                  <a:lnTo>
                    <a:pt x="6034" y="141"/>
                  </a:lnTo>
                  <a:lnTo>
                    <a:pt x="6247" y="212"/>
                  </a:lnTo>
                  <a:lnTo>
                    <a:pt x="6388" y="247"/>
                  </a:lnTo>
                  <a:lnTo>
                    <a:pt x="6529" y="319"/>
                  </a:lnTo>
                  <a:lnTo>
                    <a:pt x="6670" y="283"/>
                  </a:lnTo>
                  <a:lnTo>
                    <a:pt x="6776" y="247"/>
                  </a:lnTo>
                  <a:lnTo>
                    <a:pt x="6812" y="141"/>
                  </a:lnTo>
                  <a:lnTo>
                    <a:pt x="6953" y="106"/>
                  </a:lnTo>
                  <a:lnTo>
                    <a:pt x="7059" y="141"/>
                  </a:lnTo>
                  <a:lnTo>
                    <a:pt x="7129" y="247"/>
                  </a:lnTo>
                  <a:lnTo>
                    <a:pt x="7235" y="177"/>
                  </a:lnTo>
                  <a:lnTo>
                    <a:pt x="7411" y="141"/>
                  </a:lnTo>
                  <a:lnTo>
                    <a:pt x="7517" y="106"/>
                  </a:lnTo>
                  <a:lnTo>
                    <a:pt x="7623" y="106"/>
                  </a:lnTo>
                  <a:lnTo>
                    <a:pt x="7729" y="70"/>
                  </a:lnTo>
                  <a:lnTo>
                    <a:pt x="7906" y="35"/>
                  </a:lnTo>
                  <a:lnTo>
                    <a:pt x="8011" y="0"/>
                  </a:lnTo>
                  <a:lnTo>
                    <a:pt x="8117" y="106"/>
                  </a:lnTo>
                  <a:lnTo>
                    <a:pt x="8223" y="106"/>
                  </a:lnTo>
                  <a:lnTo>
                    <a:pt x="8329" y="35"/>
                  </a:lnTo>
                  <a:lnTo>
                    <a:pt x="8470" y="212"/>
                  </a:lnTo>
                  <a:lnTo>
                    <a:pt x="8576" y="283"/>
                  </a:lnTo>
                  <a:lnTo>
                    <a:pt x="8717" y="247"/>
                  </a:lnTo>
                  <a:lnTo>
                    <a:pt x="8894" y="212"/>
                  </a:lnTo>
                  <a:lnTo>
                    <a:pt x="9000" y="177"/>
                  </a:lnTo>
                  <a:lnTo>
                    <a:pt x="9105" y="106"/>
                  </a:lnTo>
                  <a:lnTo>
                    <a:pt x="9247" y="70"/>
                  </a:lnTo>
                  <a:lnTo>
                    <a:pt x="9317" y="212"/>
                  </a:lnTo>
                  <a:lnTo>
                    <a:pt x="9458" y="177"/>
                  </a:lnTo>
                  <a:lnTo>
                    <a:pt x="9599" y="70"/>
                  </a:lnTo>
                  <a:lnTo>
                    <a:pt x="9670" y="177"/>
                  </a:lnTo>
                  <a:lnTo>
                    <a:pt x="9811" y="247"/>
                  </a:lnTo>
                  <a:lnTo>
                    <a:pt x="9917" y="283"/>
                  </a:lnTo>
                  <a:lnTo>
                    <a:pt x="10058" y="212"/>
                  </a:lnTo>
                  <a:lnTo>
                    <a:pt x="10235" y="212"/>
                  </a:lnTo>
                  <a:lnTo>
                    <a:pt x="10341" y="247"/>
                  </a:lnTo>
                  <a:lnTo>
                    <a:pt x="10482" y="355"/>
                  </a:lnTo>
                  <a:lnTo>
                    <a:pt x="10623" y="319"/>
                  </a:lnTo>
                  <a:lnTo>
                    <a:pt x="10729" y="319"/>
                  </a:lnTo>
                  <a:lnTo>
                    <a:pt x="10905" y="319"/>
                  </a:lnTo>
                  <a:lnTo>
                    <a:pt x="11046" y="319"/>
                  </a:lnTo>
                  <a:lnTo>
                    <a:pt x="11188" y="283"/>
                  </a:lnTo>
                  <a:lnTo>
                    <a:pt x="11329" y="319"/>
                  </a:lnTo>
                  <a:lnTo>
                    <a:pt x="11470" y="319"/>
                  </a:lnTo>
                  <a:lnTo>
                    <a:pt x="11576" y="283"/>
                  </a:lnTo>
                  <a:lnTo>
                    <a:pt x="11717" y="355"/>
                  </a:lnTo>
                  <a:lnTo>
                    <a:pt x="11929" y="390"/>
                  </a:lnTo>
                  <a:lnTo>
                    <a:pt x="12105" y="461"/>
                  </a:lnTo>
                  <a:lnTo>
                    <a:pt x="12246" y="461"/>
                  </a:lnTo>
                  <a:lnTo>
                    <a:pt x="12387" y="496"/>
                  </a:lnTo>
                  <a:lnTo>
                    <a:pt x="12458" y="602"/>
                  </a:lnTo>
                  <a:lnTo>
                    <a:pt x="12458" y="1205"/>
                  </a:lnTo>
                  <a:lnTo>
                    <a:pt x="35" y="1205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537080" y="2004840"/>
            <a:ext cx="3151080" cy="889200"/>
            <a:chOff x="4537080" y="2004840"/>
            <a:chExt cx="3151080" cy="889200"/>
          </a:xfrm>
        </p:grpSpPr>
        <p:sp>
          <p:nvSpPr>
            <p:cNvPr id="787" name=""/>
            <p:cNvSpPr txBox="1"/>
            <p:nvPr/>
          </p:nvSpPr>
          <p:spPr>
            <a:xfrm>
              <a:off x="6053040" y="2128680"/>
              <a:ext cx="1635120" cy="63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r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45000" y="2425680"/>
              <a:ext cx="153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45000" y="2004840"/>
              <a:ext cx="1531800" cy="33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45000" y="2208240"/>
              <a:ext cx="1531800" cy="17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537080" y="2479680"/>
              <a:ext cx="1531800" cy="18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537080" y="2517840"/>
              <a:ext cx="156996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 txBox="1"/>
          <p:nvPr/>
        </p:nvSpPr>
        <p:spPr>
          <a:xfrm>
            <a:off x="5799240" y="4033800"/>
            <a:ext cx="180972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empl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ru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317760" y="4245120"/>
            <a:ext cx="2535480" cy="718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2666880" y="228600"/>
            <a:ext cx="3608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r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43080" y="104148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a dataset, records are read from the file into the computer’s memo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record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uter uses the programmers description of the record (i.e. the record template) to set aside sufficient memory to st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llocated for storing a record is usually called a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spcBef>
                <a:spcPts val="168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rd buffer is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connection between the program and the records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2533680" y="-31680"/>
            <a:ext cx="3608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r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052880" y="1231920"/>
            <a:ext cx="3998880" cy="3860640"/>
            <a:chOff x="4052880" y="1231920"/>
            <a:chExt cx="3998880" cy="3860640"/>
          </a:xfrm>
        </p:grpSpPr>
        <p:sp>
          <p:nvSpPr>
            <p:cNvPr id="799" name=""/>
            <p:cNvSpPr/>
            <p:nvPr/>
          </p:nvSpPr>
          <p:spPr>
            <a:xfrm>
              <a:off x="4052880" y="1677960"/>
              <a:ext cx="3998880" cy="3414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226040" y="1878120"/>
              <a:ext cx="3070080" cy="225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NTIFICATION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VIRONMENT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DIVIS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E S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5345280" y="1231920"/>
              <a:ext cx="1365120" cy="419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676767"/>
                  </a:solidFill>
                  <a:latin typeface="Arial"/>
                  <a:ea typeface="Arial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4640400" y="3645000"/>
              <a:ext cx="2738520" cy="81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rd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55760" y="3081240"/>
            <a:ext cx="1343160" cy="1810080"/>
            <a:chOff x="455760" y="3081240"/>
            <a:chExt cx="1343160" cy="1810080"/>
          </a:xfrm>
        </p:grpSpPr>
        <p:sp>
          <p:nvSpPr>
            <p:cNvPr id="804" name=""/>
            <p:cNvSpPr txBox="1"/>
            <p:nvPr/>
          </p:nvSpPr>
          <p:spPr>
            <a:xfrm>
              <a:off x="455760" y="3324240"/>
              <a:ext cx="1343160" cy="1371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190440" indent="-190440" algn="ctr">
                <a:lnSpc>
                  <a:spcPct val="103000"/>
                </a:lnSpc>
                <a:spcAft>
                  <a:spcPts val="1247"/>
                </a:spcAf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S.D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9520" y="4419720"/>
              <a:ext cx="1314360" cy="471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469800" y="3081240"/>
              <a:ext cx="1314360" cy="471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b2b2b2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190440" indent="-190440" algn="ctr">
                <a:lnSpc>
                  <a:spcPct val="103000"/>
                </a:lnSpc>
                <a:spcAft>
                  <a:spcPts val="1247"/>
                </a:spcAf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408680" y="3195720"/>
            <a:ext cx="3580560" cy="675360"/>
          </a:xfrm>
          <a:custGeom>
            <a:avLst/>
            <a:gdLst/>
            <a:ahLst/>
            <a:rect l="0" t="0" r="r" b="b"/>
            <a:pathLst>
              <a:path fill="none" w="9946" h="1876">
                <a:moveTo>
                  <a:pt x="9945" y="1876"/>
                </a:moveTo>
                <a:lnTo>
                  <a:pt x="9945" y="1876"/>
                </a:lnTo>
                <a:cubicBezTo>
                  <a:pt x="9946" y="1862"/>
                  <a:pt x="9946" y="1849"/>
                  <a:pt x="9946" y="1835"/>
                </a:cubicBezTo>
                <a:cubicBezTo>
                  <a:pt x="9946" y="1513"/>
                  <a:pt x="9716" y="1197"/>
                  <a:pt x="9280" y="918"/>
                </a:cubicBezTo>
                <a:cubicBezTo>
                  <a:pt x="8843" y="639"/>
                  <a:pt x="8215" y="407"/>
                  <a:pt x="7459" y="246"/>
                </a:cubicBezTo>
                <a:cubicBezTo>
                  <a:pt x="6703" y="85"/>
                  <a:pt x="5845" y="0"/>
                  <a:pt x="4972" y="0"/>
                </a:cubicBezTo>
                <a:cubicBezTo>
                  <a:pt x="4099" y="0"/>
                  <a:pt x="3241" y="85"/>
                  <a:pt x="2484" y="246"/>
                </a:cubicBezTo>
                <a:cubicBezTo>
                  <a:pt x="1728" y="407"/>
                  <a:pt x="1100" y="639"/>
                  <a:pt x="664" y="918"/>
                </a:cubicBezTo>
                <a:cubicBezTo>
                  <a:pt x="255" y="1179"/>
                  <a:pt x="27" y="1473"/>
                  <a:pt x="0" y="1774"/>
                </a:cubicBezTo>
              </a:path>
            </a:pathLst>
          </a:custGeom>
          <a:ln w="12600">
            <a:solidFill>
              <a:srgbClr val="3333cc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2066760" y="3081240"/>
            <a:ext cx="18892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Murach</dc:creator>
  <dc:description/>
  <dc:language>en-US</dc:language>
  <cp:lastModifiedBy>J.P. Morgan</cp:lastModifiedBy>
  <cp:revision>0</cp:revision>
  <dc:subject/>
  <dc:title>No Slide Title</dc:title>
</cp:coreProperties>
</file>